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9.jpeg" ContentType="image/jpeg"/>
  <Override PartName="/ppt/media/image14.png" ContentType="image/pn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10.png" ContentType="image/png"/>
  <Override PartName="/ppt/media/image6.jpeg" ContentType="image/jpeg"/>
  <Override PartName="/ppt/media/image13.png" ContentType="image/png"/>
  <Override PartName="/ppt/media/image7.jpeg" ContentType="image/jpeg"/>
  <Override PartName="/ppt/media/image11.png" ContentType="image/png"/>
  <Override PartName="/ppt/media/image8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c1c1c"/>
                </a:solidFill>
                <a:latin typeface="Bleeding Cowboys"/>
              </a:rPr>
              <a:t>Click to move the slide</a:t>
            </a:r>
            <a:endParaRPr b="1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2350C-82A2-4EAE-AD21-023D429959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3C095-4367-4A8C-A0B8-F83FAEEE9A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C9FD5-98FE-47C9-9AF6-9169074D89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B45F7-0EFD-4907-8036-CBA12A4120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06115-CD3D-43A5-B899-67EAA3A6CE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C1149-3F1E-45F8-A9C9-F2A7535932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98F45-2E8E-42AD-8A6A-48DA775C07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4AFFF-8805-49DC-B733-F687A85798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93B18-03F5-4280-9C4D-0E72B05EB7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D73CE-5D98-4EF0-AB50-1C21DE7DA1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1B592-03F2-4101-BB7C-EFF7D2F52D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DB64B-AA30-4C25-A395-A64639867A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D6A0B-4298-4E2F-915F-97D182A5F5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938F2-9E3F-4BAA-8C59-3366AFDED2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208AC-575D-4731-BF0F-B703AFEBB5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2A0D2-39C5-40E9-95CE-6136BDBFC6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C10ED-EE89-4BBA-8BD5-44F51E60CB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CDED9-BB22-4C01-B75B-A050EEB60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92C36-EBAB-406B-A2E0-2789B2208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A1410F-959C-4BD3-846C-6EC6B638C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EC04BA-AD2C-4E5C-AAA1-340C8E542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18B182-B5AD-4771-8DB3-203EFDE3D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821AB6-70EC-40F1-BB49-60E3F7220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AC54A5-E9EC-4A28-9C4E-5A1B1F251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7C91E6-D69D-4FD2-B58D-71F984954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0921CE-9006-45A6-BCDC-106D3B426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035BBD-4E52-479A-9847-BE2131503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F4DD0E-2858-4113-8F0A-A91118F66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5D1B2-20F1-4DF0-8B43-27533A5A0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FB537-D813-4655-BD29-F1D24F74C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B607A-2D1A-403F-BF4D-349128ED0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BDA99-56FE-4B97-9899-B092948C5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D282E-CDC1-4B17-9C67-06785E6AC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6A71B-34FA-4003-858D-DEB0BFBF5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D2E8C-1587-452F-AF3B-0D8981A0E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3B1DC-9414-4630-AB50-1803BE295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97150-A905-471C-97C5-382CB157E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1B767-BE07-4562-8847-638E8DD35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A85F7-DA16-4752-A1F6-1948075BE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16E57-5AAA-4D8C-AE80-C93E1816E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301FF-73FC-4781-8C88-DE45F4A70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DCBE2-A4D4-48B2-AA92-7F3A09275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26A65-E4A3-48D2-87A7-7A4ED653E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D1382B-59D7-4FC2-A848-1EA52ACBB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600B58-7213-4C8F-A791-67C590C74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DEBE40-3B9E-4416-91F1-A059536F5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A3DFF8-3A3F-4431-A1B8-055CA0C14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A4D126-C24B-4EC9-8576-957106A72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2EADA-6610-4287-8F14-9D65C5D59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9A59DD-FC06-4E1A-84C0-7C86877AF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7E3000-6EE2-45F7-8EA0-184B97A1A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C8E52D-9658-4B04-A685-3F6977CA0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67D88C-D1D3-4438-9933-AA431FE22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893D9E-F6D2-444E-AD4E-368942FFF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E9B761-D3D4-4D32-B9EF-9A32C2781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C26050-E011-4618-AC57-243F068A1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DC0C53-BE23-4958-8D11-6B174D77D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B17DF8-9CFD-4286-9024-8E007A8ED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11A0E1-D879-4682-B8A4-2EBABE0E2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15D20-1EDD-47D1-8720-889EC90D4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397A59-12C9-4679-8FA4-D36DF0971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F3D692-DF0E-469D-9C26-2089A17DF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34C9A5-1EC1-424E-9B44-1C040CE66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113642-0A82-4F76-9757-97706C930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BB028B-8983-49CC-AEC5-23771310A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439D33-C705-411A-9B92-CA8AF88F9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593327-A3E8-464A-AB84-38157EE3A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4DD42B-371C-412B-B03B-879F515AD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EF5F7D-1749-4712-80F8-B315B5577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1AC1FF-E294-44EE-AE17-530F221AC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C9A9B-C041-41A6-BEF1-139D64527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E1F5C0-D10A-4F0C-8245-016253EFD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A80C92-C636-429C-8BC1-02E05787E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DA12D6-57CA-4593-A280-14C878B27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7D83D0-6E55-4079-8708-3567D2549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FB024D-3ECD-4776-BD39-F9014C5E5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B5E222-2219-4B77-9A88-7E68B549A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99222B-98FB-4AAE-9E90-01A5C4ACF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7B3D5A-B919-44AC-8FDC-E1E99F434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B3F743-309C-48E4-8A55-7B38BC3F5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AF9F1B-2C63-46DA-A8DC-E753E1C8A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3FCA0-4C05-47C0-BBC0-35B074759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E7BCB9-EF14-4ECA-9128-2859FE256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D865D1-05D7-4C84-9E90-0AA914D2E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EEECB8-9BAB-445D-986D-0E007C5E6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0F5AFA-C770-40CC-9C01-A8BFCF2F8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8133DA-2C22-48C3-B63E-89EC92A07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E5C022-0615-4D01-B5F8-DCC6BA096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1A4688-17F2-4602-A3EA-E54861248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4FBB3B-E62C-4EDB-83F7-32D04E156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93A240-67E8-4CD9-92EE-B3175767D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F1ABBF-E3CF-47E3-A250-D1D239D68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00B5C-8C60-47D5-963D-CE1B09EEA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3DC693-7740-4844-9108-C970EE875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AE2315-14B9-461A-A189-FE35FF7E7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21C4A2-0436-4A8D-A0E3-9AC50752B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F13100-7DEF-4FEE-A34A-ACFAB8C68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5B5B58-8C7A-45A1-9D3D-26EE4F6EE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506665-4984-483D-8CE9-3BA30FADA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DB65C4-503D-4145-AB8B-04161F3B8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1D46FD-FB00-49D5-BEF5-2AA7FC32B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4BC23B-5364-45F0-A3E8-C9DD566FE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085F54-022D-4EC4-8DC9-BE9B9EDE1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6A6D9-7457-4EE1-AA73-6B7BB7BAB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33FB29-5018-4F71-96CF-00F368798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12B518-6F36-4021-9E27-EC7984589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B84555-F8B2-4EDA-8D44-1D262BD2F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4626D5-A328-46BA-ACE7-4D8E9E9BA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9D2A21-7250-4FD8-9D2D-AD70CE1BF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D5189C-D5C1-4AB5-9492-51B51AE1A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E971C5-E532-4369-9247-78AADB1B6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F330A1-92E1-4A5E-AD5E-5EAF4E5B7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9C9DE7-993F-4F2B-AFB3-3A79B3909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738FF9-DF19-4D98-927F-BEFD673D9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96DAF-1EDB-4F18-8FAB-DFC621816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F86FB6-898D-4857-AFE4-BB9769416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73FA90-4CCF-413A-83BB-8B31D2211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E566BA-99AB-4232-983D-256F93D01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C3273F-6223-475B-9E15-10026B63F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53015E-4E76-4DD9-8C55-06BF551B3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1DE068-17ED-4C25-AA5C-F8AE6A83D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A0A5C9-DF08-4F38-9F96-E364E691E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A23179-C7A9-4060-B801-4E9EFCCE2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2C96BD-02B6-4495-BB39-349AAB901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95848A-9A7C-493D-8F67-DAD90B345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c1c1c"/>
                </a:solidFill>
                <a:latin typeface="Bleeding Cowboys"/>
              </a:rPr>
              <a:t>Click to edit the title text format</a:t>
            </a:r>
            <a:endParaRPr b="1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7AFA7-2FE4-4924-AABD-AA816C1430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772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FD3F5-29E9-4450-AF17-922FFEC19A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752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2895120"/>
            <a:ext cx="8229600" cy="30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-21132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45640" indent="-16884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184040" indent="-16884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22440" indent="-16884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522440" indent="-16884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522440" indent="-16884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82C46-E7EF-42E4-9F25-CFCF277B73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874B1-7C2B-4FF2-ABCE-4254A8D8E3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83772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E944F-1034-433A-8CC5-5F38DB444A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752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2895120"/>
            <a:ext cx="8229600" cy="30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-21132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45640" indent="-16884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184040" indent="-16884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22440" indent="-16884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522440" indent="-16884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522440" indent="-16884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CCF8A-457A-4414-BAC3-A424DD018F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B6190-F727-422D-A938-B54ABC724F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83772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4CEA1-4D25-4187-9BA5-EFC598CF34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752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2895120"/>
            <a:ext cx="8229600" cy="30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-21132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45640" indent="-16884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184040" indent="-16884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22440" indent="-16884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522440" indent="-16884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522440" indent="-16884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E8695-1C1B-4BC8-98B6-6D6B84CD57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c1c1c"/>
                </a:solidFill>
                <a:latin typeface="Bleeding Cowboys"/>
              </a:rPr>
              <a:t>1.3: functions and their representations</a:t>
            </a:r>
            <a:endParaRPr b="1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ptember 9, 20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c1c1c"/>
                </a:solidFill>
                <a:latin typeface="Bleeding Cowboys"/>
              </a:rPr>
              <a:t>The vertical line test</a:t>
            </a:r>
            <a:endParaRPr b="1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every possible vertical line intersects a graph at no more than one point, then the graph represents a fun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these pa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2" name="Group 8"/>
          <p:cNvGrpSpPr/>
          <p:nvPr/>
        </p:nvGrpSpPr>
        <p:grpSpPr>
          <a:xfrm>
            <a:off x="457200" y="3886200"/>
            <a:ext cx="6707160" cy="2143080"/>
            <a:chOff x="457200" y="3886200"/>
            <a:chExt cx="6707160" cy="2143080"/>
          </a:xfrm>
        </p:grpSpPr>
        <p:grpSp>
          <p:nvGrpSpPr>
            <p:cNvPr id="663" name="Group 7"/>
            <p:cNvGrpSpPr/>
            <p:nvPr/>
          </p:nvGrpSpPr>
          <p:grpSpPr>
            <a:xfrm>
              <a:off x="457200" y="3886200"/>
              <a:ext cx="4270320" cy="2066760"/>
              <a:chOff x="457200" y="3886200"/>
              <a:chExt cx="4270320" cy="2066760"/>
            </a:xfrm>
          </p:grpSpPr>
          <p:graphicFrame>
            <p:nvGraphicFramePr>
              <p:cNvPr id="664" name="Object 4"/>
              <p:cNvGraphicFramePr/>
              <p:nvPr/>
            </p:nvGraphicFramePr>
            <p:xfrm>
              <a:off x="457200" y="3962520"/>
              <a:ext cx="1984320" cy="19904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665" name="Object 4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457200" y="3962520"/>
                        <a:ext cx="1984320" cy="19904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666" name="Object 5"/>
              <p:cNvGraphicFramePr/>
              <p:nvPr/>
            </p:nvGraphicFramePr>
            <p:xfrm>
              <a:off x="2819520" y="3886200"/>
              <a:ext cx="1908000" cy="191448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667" name="Object 5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2819520" y="3886200"/>
                        <a:ext cx="1908000" cy="19144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668" name="Object 6"/>
            <p:cNvGraphicFramePr/>
            <p:nvPr/>
          </p:nvGraphicFramePr>
          <p:xfrm>
            <a:off x="5029200" y="3886200"/>
            <a:ext cx="2135160" cy="21430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669" name="Object 6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029200" y="3886200"/>
                      <a:ext cx="2135160" cy="2143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670" name="SMARTPenAnnotation387"/>
          <p:cNvSpPr/>
          <p:nvPr/>
        </p:nvSpPr>
        <p:spPr>
          <a:xfrm>
            <a:off x="3360600" y="4503600"/>
            <a:ext cx="473040" cy="3430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SMARTPenAnnotation388"/>
          <p:cNvSpPr/>
          <p:nvPr/>
        </p:nvSpPr>
        <p:spPr>
          <a:xfrm>
            <a:off x="3921120" y="4361040"/>
            <a:ext cx="216000" cy="2221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SMARTPenAnnotation389"/>
          <p:cNvSpPr/>
          <p:nvPr/>
        </p:nvSpPr>
        <p:spPr>
          <a:xfrm>
            <a:off x="4160880" y="4309920"/>
            <a:ext cx="217440" cy="2844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SMARTPenAnnotation390"/>
          <p:cNvSpPr/>
          <p:nvPr/>
        </p:nvSpPr>
        <p:spPr>
          <a:xfrm>
            <a:off x="3703680" y="4846680"/>
            <a:ext cx="204840" cy="2458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SMARTPenAnnotation391"/>
          <p:cNvSpPr/>
          <p:nvPr/>
        </p:nvSpPr>
        <p:spPr>
          <a:xfrm>
            <a:off x="3965400" y="4778280"/>
            <a:ext cx="147960" cy="2127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SMARTPenAnnotation392"/>
          <p:cNvSpPr/>
          <p:nvPr/>
        </p:nvSpPr>
        <p:spPr>
          <a:xfrm>
            <a:off x="4149720" y="4651200"/>
            <a:ext cx="136440" cy="2988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SMARTPenAnnotation393"/>
          <p:cNvSpPr/>
          <p:nvPr/>
        </p:nvSpPr>
        <p:spPr>
          <a:xfrm>
            <a:off x="4114800" y="4743360"/>
            <a:ext cx="250920" cy="1364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SMARTPenAnnotation394"/>
          <p:cNvSpPr/>
          <p:nvPr/>
        </p:nvSpPr>
        <p:spPr>
          <a:xfrm>
            <a:off x="3325680" y="5407200"/>
            <a:ext cx="149400" cy="4442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SMARTPenAnnotation395"/>
          <p:cNvSpPr/>
          <p:nvPr/>
        </p:nvSpPr>
        <p:spPr>
          <a:xfrm>
            <a:off x="3257640" y="5326200"/>
            <a:ext cx="215640" cy="3096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SMARTPenAnnotation396"/>
          <p:cNvSpPr/>
          <p:nvPr/>
        </p:nvSpPr>
        <p:spPr>
          <a:xfrm>
            <a:off x="3533760" y="5337000"/>
            <a:ext cx="317520" cy="5493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SMARTPenAnnotation397"/>
          <p:cNvSpPr/>
          <p:nvPr/>
        </p:nvSpPr>
        <p:spPr>
          <a:xfrm>
            <a:off x="3476520" y="5372280"/>
            <a:ext cx="363600" cy="2635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SMARTPenAnnotation398"/>
          <p:cNvSpPr/>
          <p:nvPr/>
        </p:nvSpPr>
        <p:spPr>
          <a:xfrm>
            <a:off x="3870360" y="5126040"/>
            <a:ext cx="333360" cy="5191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SMARTPenAnnotation399"/>
          <p:cNvSpPr/>
          <p:nvPr/>
        </p:nvSpPr>
        <p:spPr>
          <a:xfrm>
            <a:off x="4186080" y="5002200"/>
            <a:ext cx="241560" cy="5526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c1c1c"/>
                </a:solidFill>
                <a:latin typeface="Bleeding Cowboys"/>
              </a:rPr>
              <a:t>Representations of functions</a:t>
            </a:r>
            <a:endParaRPr b="1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bally: in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erically: table of val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nce it is often not possible or appropriate to list all values, this type of table is often referred to as a partial numerical re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agrammatically: dia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mbolically: formu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phically: 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SMARTPenAnnotation360"/>
          <p:cNvSpPr/>
          <p:nvPr/>
        </p:nvSpPr>
        <p:spPr>
          <a:xfrm>
            <a:off x="6551640" y="4022640"/>
            <a:ext cx="682560" cy="10749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SMARTPenAnnotation361"/>
          <p:cNvSpPr/>
          <p:nvPr/>
        </p:nvSpPr>
        <p:spPr>
          <a:xfrm>
            <a:off x="7761240" y="4000680"/>
            <a:ext cx="696960" cy="8791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SMARTPenAnnotation362"/>
          <p:cNvSpPr/>
          <p:nvPr/>
        </p:nvSpPr>
        <p:spPr>
          <a:xfrm>
            <a:off x="6823080" y="3589200"/>
            <a:ext cx="69840" cy="3193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SMARTPenAnnotation363"/>
          <p:cNvSpPr/>
          <p:nvPr/>
        </p:nvSpPr>
        <p:spPr>
          <a:xfrm>
            <a:off x="6651720" y="3589200"/>
            <a:ext cx="388800" cy="572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SMARTPenAnnotation364"/>
          <p:cNvSpPr/>
          <p:nvPr/>
        </p:nvSpPr>
        <p:spPr>
          <a:xfrm>
            <a:off x="6675480" y="3817800"/>
            <a:ext cx="468360" cy="684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SMARTPenAnnotation365"/>
          <p:cNvSpPr/>
          <p:nvPr/>
        </p:nvSpPr>
        <p:spPr>
          <a:xfrm>
            <a:off x="8229600" y="3429000"/>
            <a:ext cx="250920" cy="3078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SMARTPenAnnotation366"/>
          <p:cNvSpPr/>
          <p:nvPr/>
        </p:nvSpPr>
        <p:spPr>
          <a:xfrm>
            <a:off x="6880320" y="4229280"/>
            <a:ext cx="46080" cy="2635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SMARTPenAnnotation367"/>
          <p:cNvSpPr/>
          <p:nvPr/>
        </p:nvSpPr>
        <p:spPr>
          <a:xfrm>
            <a:off x="6983280" y="4187880"/>
            <a:ext cx="1017720" cy="1983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SMARTPenAnnotation368"/>
          <p:cNvSpPr/>
          <p:nvPr/>
        </p:nvSpPr>
        <p:spPr>
          <a:xfrm>
            <a:off x="8093160" y="4240080"/>
            <a:ext cx="11160" cy="2178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SMARTPenAnnotation369"/>
          <p:cNvSpPr/>
          <p:nvPr/>
        </p:nvSpPr>
        <p:spPr>
          <a:xfrm>
            <a:off x="8161200" y="4229280"/>
            <a:ext cx="103320" cy="1933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SMARTPenAnnotation370"/>
          <p:cNvSpPr/>
          <p:nvPr/>
        </p:nvSpPr>
        <p:spPr>
          <a:xfrm>
            <a:off x="6732720" y="4584600"/>
            <a:ext cx="274680" cy="2714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SMARTPenAnnotation371"/>
          <p:cNvSpPr/>
          <p:nvPr/>
        </p:nvSpPr>
        <p:spPr>
          <a:xfrm>
            <a:off x="7018200" y="4618080"/>
            <a:ext cx="947880" cy="1191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SMARTPenAnnotation372"/>
          <p:cNvSpPr/>
          <p:nvPr/>
        </p:nvSpPr>
        <p:spPr>
          <a:xfrm>
            <a:off x="8035920" y="4549680"/>
            <a:ext cx="11160" cy="2048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SMARTPenAnnotation373"/>
          <p:cNvSpPr/>
          <p:nvPr/>
        </p:nvSpPr>
        <p:spPr>
          <a:xfrm>
            <a:off x="8115480" y="4525920"/>
            <a:ext cx="136440" cy="1494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SMARTPenAnnotation374"/>
          <p:cNvSpPr/>
          <p:nvPr/>
        </p:nvSpPr>
        <p:spPr>
          <a:xfrm>
            <a:off x="4400640" y="5337000"/>
            <a:ext cx="274680" cy="7779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SMARTPenAnnotation375"/>
          <p:cNvSpPr/>
          <p:nvPr/>
        </p:nvSpPr>
        <p:spPr>
          <a:xfrm>
            <a:off x="4251240" y="5635800"/>
            <a:ext cx="320760" cy="1364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SMARTPenAnnotation376"/>
          <p:cNvSpPr/>
          <p:nvPr/>
        </p:nvSpPr>
        <p:spPr>
          <a:xfrm>
            <a:off x="4824360" y="5178600"/>
            <a:ext cx="182520" cy="6728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SMARTPenAnnotation377"/>
          <p:cNvSpPr/>
          <p:nvPr/>
        </p:nvSpPr>
        <p:spPr>
          <a:xfrm>
            <a:off x="4983120" y="5497560"/>
            <a:ext cx="206280" cy="1382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SMARTPenAnnotation378"/>
          <p:cNvSpPr/>
          <p:nvPr/>
        </p:nvSpPr>
        <p:spPr>
          <a:xfrm>
            <a:off x="5086440" y="5429160"/>
            <a:ext cx="79200" cy="3207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SMARTPenAnnotation379"/>
          <p:cNvSpPr/>
          <p:nvPr/>
        </p:nvSpPr>
        <p:spPr>
          <a:xfrm>
            <a:off x="5235480" y="5257800"/>
            <a:ext cx="147600" cy="4921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SMARTPenAnnotation380"/>
          <p:cNvSpPr/>
          <p:nvPr/>
        </p:nvSpPr>
        <p:spPr>
          <a:xfrm>
            <a:off x="5508720" y="5383080"/>
            <a:ext cx="241200" cy="572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SMARTPenAnnotation381"/>
          <p:cNvSpPr/>
          <p:nvPr/>
        </p:nvSpPr>
        <p:spPr>
          <a:xfrm>
            <a:off x="5580000" y="5451480"/>
            <a:ext cx="169920" cy="442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SMARTPenAnnotation382"/>
          <p:cNvSpPr/>
          <p:nvPr/>
        </p:nvSpPr>
        <p:spPr>
          <a:xfrm>
            <a:off x="5965920" y="5292720"/>
            <a:ext cx="195120" cy="2970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SMARTPenAnnotation383"/>
          <p:cNvSpPr/>
          <p:nvPr/>
        </p:nvSpPr>
        <p:spPr>
          <a:xfrm>
            <a:off x="5978520" y="5246640"/>
            <a:ext cx="147600" cy="4111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SMARTPenAnnotation384"/>
          <p:cNvSpPr/>
          <p:nvPr/>
        </p:nvSpPr>
        <p:spPr>
          <a:xfrm>
            <a:off x="6229440" y="5315040"/>
            <a:ext cx="274680" cy="460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SMARTPenAnnotation385"/>
          <p:cNvSpPr/>
          <p:nvPr/>
        </p:nvSpPr>
        <p:spPr>
          <a:xfrm>
            <a:off x="6346800" y="5200560"/>
            <a:ext cx="54000" cy="3650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SMARTPenAnnotation386"/>
          <p:cNvSpPr/>
          <p:nvPr/>
        </p:nvSpPr>
        <p:spPr>
          <a:xfrm>
            <a:off x="6550200" y="5189400"/>
            <a:ext cx="239400" cy="2970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c1c1c"/>
                </a:solidFill>
                <a:latin typeface="Bleeding Cowboys"/>
              </a:rPr>
              <a:t>Using these representations</a:t>
            </a:r>
            <a:endParaRPr b="1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mbolic: f(x)=x+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erically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phic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b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4" name="Picture 4" descr="basic graph"/>
          <p:cNvPicPr/>
          <p:nvPr/>
        </p:nvPicPr>
        <p:blipFill>
          <a:blip r:embed="rId1"/>
          <a:stretch/>
        </p:blipFill>
        <p:spPr>
          <a:xfrm>
            <a:off x="5486400" y="3124080"/>
            <a:ext cx="3017880" cy="3095640"/>
          </a:xfrm>
          <a:prstGeom prst="rect">
            <a:avLst/>
          </a:prstGeom>
          <a:ln w="0">
            <a:noFill/>
          </a:ln>
        </p:spPr>
      </p:pic>
      <p:sp>
        <p:nvSpPr>
          <p:cNvPr id="715" name="SMARTPenAnnotation336"/>
          <p:cNvSpPr/>
          <p:nvPr/>
        </p:nvSpPr>
        <p:spPr>
          <a:xfrm>
            <a:off x="1646280" y="2754360"/>
            <a:ext cx="446040" cy="2635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SMARTPenAnnotation337"/>
          <p:cNvSpPr/>
          <p:nvPr/>
        </p:nvSpPr>
        <p:spPr>
          <a:xfrm>
            <a:off x="1692360" y="2754360"/>
            <a:ext cx="318960" cy="4111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SMARTPenAnnotation338"/>
          <p:cNvSpPr/>
          <p:nvPr/>
        </p:nvSpPr>
        <p:spPr>
          <a:xfrm>
            <a:off x="2251080" y="2664000"/>
            <a:ext cx="217440" cy="27540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SMARTPenAnnotation339"/>
          <p:cNvSpPr/>
          <p:nvPr/>
        </p:nvSpPr>
        <p:spPr>
          <a:xfrm>
            <a:off x="1325520" y="3213000"/>
            <a:ext cx="2195640" cy="1587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SMARTPenAnnotation340"/>
          <p:cNvSpPr/>
          <p:nvPr/>
        </p:nvSpPr>
        <p:spPr>
          <a:xfrm>
            <a:off x="2525760" y="2685960"/>
            <a:ext cx="228600" cy="4572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SMARTPenAnnotation341"/>
          <p:cNvSpPr/>
          <p:nvPr/>
        </p:nvSpPr>
        <p:spPr>
          <a:xfrm>
            <a:off x="2422440" y="2960640"/>
            <a:ext cx="298440" cy="334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SMARTPenAnnotation342"/>
          <p:cNvSpPr/>
          <p:nvPr/>
        </p:nvSpPr>
        <p:spPr>
          <a:xfrm>
            <a:off x="2830680" y="2697120"/>
            <a:ext cx="187200" cy="3891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SMARTPenAnnotation343"/>
          <p:cNvSpPr/>
          <p:nvPr/>
        </p:nvSpPr>
        <p:spPr>
          <a:xfrm>
            <a:off x="2994120" y="3086280"/>
            <a:ext cx="4680" cy="360"/>
          </a:xfrm>
          <a:prstGeom prst="pie">
            <a:avLst/>
          </a:prstGeom>
          <a:solidFill>
            <a:srgbClr val="cc0066"/>
          </a:solidFill>
          <a:ln w="3816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SMARTPenAnnotation344"/>
          <p:cNvSpPr/>
          <p:nvPr/>
        </p:nvSpPr>
        <p:spPr>
          <a:xfrm>
            <a:off x="3097080" y="2879640"/>
            <a:ext cx="206640" cy="1494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SMARTPenAnnotation345"/>
          <p:cNvSpPr/>
          <p:nvPr/>
        </p:nvSpPr>
        <p:spPr>
          <a:xfrm>
            <a:off x="3063960" y="2857680"/>
            <a:ext cx="215640" cy="2062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SMARTPenAnnotation346"/>
          <p:cNvSpPr/>
          <p:nvPr/>
        </p:nvSpPr>
        <p:spPr>
          <a:xfrm>
            <a:off x="3279600" y="2651040"/>
            <a:ext cx="192240" cy="4129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SMARTPenAnnotation347"/>
          <p:cNvSpPr/>
          <p:nvPr/>
        </p:nvSpPr>
        <p:spPr>
          <a:xfrm>
            <a:off x="1874880" y="3406680"/>
            <a:ext cx="19080" cy="3542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SMARTPenAnnotation348"/>
          <p:cNvSpPr/>
          <p:nvPr/>
        </p:nvSpPr>
        <p:spPr>
          <a:xfrm>
            <a:off x="2462040" y="3371760"/>
            <a:ext cx="509760" cy="3081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SMARTPenAnnotation349"/>
          <p:cNvSpPr/>
          <p:nvPr/>
        </p:nvSpPr>
        <p:spPr>
          <a:xfrm>
            <a:off x="1571760" y="3898800"/>
            <a:ext cx="439560" cy="3873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SMARTPenAnnotation350"/>
          <p:cNvSpPr/>
          <p:nvPr/>
        </p:nvSpPr>
        <p:spPr>
          <a:xfrm>
            <a:off x="2503440" y="3865680"/>
            <a:ext cx="317520" cy="3283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SMARTPenAnnotation351"/>
          <p:cNvSpPr/>
          <p:nvPr/>
        </p:nvSpPr>
        <p:spPr>
          <a:xfrm>
            <a:off x="1657440" y="4457880"/>
            <a:ext cx="365040" cy="3762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SMARTPenAnnotation352"/>
          <p:cNvSpPr/>
          <p:nvPr/>
        </p:nvSpPr>
        <p:spPr>
          <a:xfrm>
            <a:off x="2565360" y="4400640"/>
            <a:ext cx="327240" cy="1936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SMARTPenAnnotation353"/>
          <p:cNvSpPr/>
          <p:nvPr/>
        </p:nvSpPr>
        <p:spPr>
          <a:xfrm>
            <a:off x="2789280" y="4389480"/>
            <a:ext cx="44280" cy="5144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SMARTPenAnnotation354"/>
          <p:cNvSpPr/>
          <p:nvPr/>
        </p:nvSpPr>
        <p:spPr>
          <a:xfrm>
            <a:off x="7201080" y="4029120"/>
            <a:ext cx="33120" cy="601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SMARTPenAnnotation355"/>
          <p:cNvSpPr/>
          <p:nvPr/>
        </p:nvSpPr>
        <p:spPr>
          <a:xfrm>
            <a:off x="7429680" y="3786120"/>
            <a:ext cx="56880" cy="604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4040" bIns="14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SMARTPenAnnotation356"/>
          <p:cNvSpPr/>
          <p:nvPr/>
        </p:nvSpPr>
        <p:spPr>
          <a:xfrm>
            <a:off x="7694640" y="3543480"/>
            <a:ext cx="31680" cy="601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SMARTPenAnnotation357"/>
          <p:cNvSpPr/>
          <p:nvPr/>
        </p:nvSpPr>
        <p:spPr>
          <a:xfrm>
            <a:off x="5726160" y="3154320"/>
            <a:ext cx="2400120" cy="24004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SMARTPenAnnotation358"/>
          <p:cNvSpPr/>
          <p:nvPr/>
        </p:nvSpPr>
        <p:spPr>
          <a:xfrm>
            <a:off x="8035920" y="3029040"/>
            <a:ext cx="272880" cy="2746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SMARTPenAnnotation359"/>
          <p:cNvSpPr/>
          <p:nvPr/>
        </p:nvSpPr>
        <p:spPr>
          <a:xfrm>
            <a:off x="5622840" y="5257800"/>
            <a:ext cx="263520" cy="4222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c1c1c"/>
                </a:solidFill>
                <a:latin typeface="Bleeding Cowboys"/>
              </a:rPr>
              <a:t>Set builder notation</a:t>
            </a:r>
            <a:endParaRPr b="1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{ variable | mathematical description of the variable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{x|x&gt;5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{y| 5&lt;y&lt;10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c1c1c"/>
                </a:solidFill>
                <a:latin typeface="Bleeding Cowboys"/>
              </a:rPr>
              <a:t>Find the domain of f</a:t>
            </a:r>
            <a:endParaRPr b="1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(x) =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x</a:t>
            </a:r>
            <a:r>
              <a:rPr b="0" lang="en-US" sz="3200" spc="-1" strike="noStrike" u="sng" baseline="30000">
                <a:solidFill>
                  <a:srgbClr val="000000"/>
                </a:solidFill>
                <a:uFillTx/>
                <a:latin typeface="Arial"/>
              </a:rPr>
              <a:t>2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-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-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SMARTPenAnnotation311"/>
          <p:cNvSpPr/>
          <p:nvPr/>
        </p:nvSpPr>
        <p:spPr>
          <a:xfrm>
            <a:off x="5143680" y="1886040"/>
            <a:ext cx="307800" cy="3999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SMARTPenAnnotation312"/>
          <p:cNvSpPr/>
          <p:nvPr/>
        </p:nvSpPr>
        <p:spPr>
          <a:xfrm>
            <a:off x="5051520" y="1954080"/>
            <a:ext cx="355680" cy="4352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SMARTPenAnnotation313"/>
          <p:cNvSpPr/>
          <p:nvPr/>
        </p:nvSpPr>
        <p:spPr>
          <a:xfrm>
            <a:off x="5578560" y="2046240"/>
            <a:ext cx="457200" cy="684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SMARTPenAnnotation314"/>
          <p:cNvSpPr/>
          <p:nvPr/>
        </p:nvSpPr>
        <p:spPr>
          <a:xfrm>
            <a:off x="5622840" y="2136600"/>
            <a:ext cx="435240" cy="810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SMARTPenAnnotation315"/>
          <p:cNvSpPr/>
          <p:nvPr/>
        </p:nvSpPr>
        <p:spPr>
          <a:xfrm>
            <a:off x="5794200" y="1874880"/>
            <a:ext cx="24120" cy="5824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SMARTPenAnnotation316"/>
          <p:cNvSpPr/>
          <p:nvPr/>
        </p:nvSpPr>
        <p:spPr>
          <a:xfrm>
            <a:off x="6194520" y="1874880"/>
            <a:ext cx="496800" cy="3999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SMARTPenAnnotation317"/>
          <p:cNvSpPr/>
          <p:nvPr/>
        </p:nvSpPr>
        <p:spPr>
          <a:xfrm>
            <a:off x="5040360" y="2960640"/>
            <a:ext cx="252360" cy="9590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SMARTPenAnnotation318"/>
          <p:cNvSpPr/>
          <p:nvPr/>
        </p:nvSpPr>
        <p:spPr>
          <a:xfrm>
            <a:off x="5418000" y="3360600"/>
            <a:ext cx="343080" cy="3319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SMARTPenAnnotation319"/>
          <p:cNvSpPr/>
          <p:nvPr/>
        </p:nvSpPr>
        <p:spPr>
          <a:xfrm>
            <a:off x="5467320" y="3349800"/>
            <a:ext cx="212760" cy="3870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SMARTPenAnnotation320"/>
          <p:cNvSpPr/>
          <p:nvPr/>
        </p:nvSpPr>
        <p:spPr>
          <a:xfrm>
            <a:off x="5954760" y="3029040"/>
            <a:ext cx="74520" cy="9158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SMARTPenAnnotation321"/>
          <p:cNvSpPr/>
          <p:nvPr/>
        </p:nvSpPr>
        <p:spPr>
          <a:xfrm>
            <a:off x="6286680" y="3303720"/>
            <a:ext cx="307800" cy="3538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SMARTPenAnnotation322"/>
          <p:cNvSpPr/>
          <p:nvPr/>
        </p:nvSpPr>
        <p:spPr>
          <a:xfrm>
            <a:off x="6389640" y="3336840"/>
            <a:ext cx="125640" cy="3891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SMARTPenAnnotation323"/>
          <p:cNvSpPr/>
          <p:nvPr/>
        </p:nvSpPr>
        <p:spPr>
          <a:xfrm>
            <a:off x="6664320" y="3429000"/>
            <a:ext cx="204840" cy="349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520" bIns="-11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SMARTPenAnnotation324"/>
          <p:cNvSpPr/>
          <p:nvPr/>
        </p:nvSpPr>
        <p:spPr>
          <a:xfrm>
            <a:off x="6686640" y="3497400"/>
            <a:ext cx="171360" cy="410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SMARTPenAnnotation325"/>
          <p:cNvSpPr/>
          <p:nvPr/>
        </p:nvSpPr>
        <p:spPr>
          <a:xfrm>
            <a:off x="6950160" y="3314880"/>
            <a:ext cx="108000" cy="3204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SMARTPenAnnotation326"/>
          <p:cNvSpPr/>
          <p:nvPr/>
        </p:nvSpPr>
        <p:spPr>
          <a:xfrm>
            <a:off x="7097760" y="3222720"/>
            <a:ext cx="103320" cy="4572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SMARTPenAnnotation327"/>
          <p:cNvSpPr/>
          <p:nvPr/>
        </p:nvSpPr>
        <p:spPr>
          <a:xfrm>
            <a:off x="6915240" y="3097080"/>
            <a:ext cx="549360" cy="5828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SMARTPenAnnotation328"/>
          <p:cNvSpPr/>
          <p:nvPr/>
        </p:nvSpPr>
        <p:spPr>
          <a:xfrm>
            <a:off x="7543800" y="3611520"/>
            <a:ext cx="57240" cy="2062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SMARTPenAnnotation329"/>
          <p:cNvSpPr/>
          <p:nvPr/>
        </p:nvSpPr>
        <p:spPr>
          <a:xfrm>
            <a:off x="7737480" y="3268800"/>
            <a:ext cx="206280" cy="2746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SMARTPenAnnotation330"/>
          <p:cNvSpPr/>
          <p:nvPr/>
        </p:nvSpPr>
        <p:spPr>
          <a:xfrm>
            <a:off x="7772400" y="3236760"/>
            <a:ext cx="171360" cy="3175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SMARTPenAnnotation331"/>
          <p:cNvSpPr/>
          <p:nvPr/>
        </p:nvSpPr>
        <p:spPr>
          <a:xfrm>
            <a:off x="8001000" y="3279600"/>
            <a:ext cx="263520" cy="460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SMARTPenAnnotation332"/>
          <p:cNvSpPr/>
          <p:nvPr/>
        </p:nvSpPr>
        <p:spPr>
          <a:xfrm>
            <a:off x="8069400" y="3349800"/>
            <a:ext cx="252360" cy="428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SMARTPenAnnotation333"/>
          <p:cNvSpPr/>
          <p:nvPr/>
        </p:nvSpPr>
        <p:spPr>
          <a:xfrm>
            <a:off x="8104320" y="3200400"/>
            <a:ext cx="46080" cy="3780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SMARTPenAnnotation334"/>
          <p:cNvSpPr/>
          <p:nvPr/>
        </p:nvSpPr>
        <p:spPr>
          <a:xfrm>
            <a:off x="8389800" y="3143160"/>
            <a:ext cx="217800" cy="3430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SMARTPenAnnotation335"/>
          <p:cNvSpPr/>
          <p:nvPr/>
        </p:nvSpPr>
        <p:spPr>
          <a:xfrm>
            <a:off x="8561520" y="2962440"/>
            <a:ext cx="226800" cy="7174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c1c1c"/>
                </a:solidFill>
                <a:latin typeface="Bleeding Cowboys"/>
              </a:rPr>
              <a:t>Try this</a:t>
            </a:r>
            <a:endParaRPr b="1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114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the domain and ran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aluate f(0) and f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all x such that f(x)= -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0" name="Object 4"/>
          <p:cNvGraphicFramePr/>
          <p:nvPr/>
        </p:nvGraphicFramePr>
        <p:xfrm>
          <a:off x="4648320" y="2057400"/>
          <a:ext cx="3882960" cy="3895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057400"/>
                    <a:ext cx="3882960" cy="389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72" name="Object 5"/>
          <p:cNvGraphicFramePr/>
          <p:nvPr/>
        </p:nvGraphicFramePr>
        <p:xfrm>
          <a:off x="4648320" y="2057400"/>
          <a:ext cx="3959280" cy="3971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73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2057400"/>
                    <a:ext cx="3959280" cy="397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74" name="Group 32"/>
          <p:cNvGrpSpPr/>
          <p:nvPr/>
        </p:nvGrpSpPr>
        <p:grpSpPr>
          <a:xfrm>
            <a:off x="1692360" y="1146240"/>
            <a:ext cx="3771720" cy="671400"/>
            <a:chOff x="1692360" y="1146240"/>
            <a:chExt cx="3771720" cy="671400"/>
          </a:xfrm>
        </p:grpSpPr>
        <p:sp>
          <p:nvSpPr>
            <p:cNvPr id="775" name="SMARTPenAnnotation257"/>
            <p:cNvSpPr/>
            <p:nvPr/>
          </p:nvSpPr>
          <p:spPr>
            <a:xfrm>
              <a:off x="1771560" y="1257120"/>
              <a:ext cx="7920" cy="446040"/>
            </a:xfrm>
            <a:prstGeom prst="pie">
              <a:avLst/>
            </a:pr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SMARTPenAnnotation258"/>
            <p:cNvSpPr/>
            <p:nvPr/>
          </p:nvSpPr>
          <p:spPr>
            <a:xfrm>
              <a:off x="1692360" y="1247760"/>
              <a:ext cx="328320" cy="490680"/>
            </a:xfrm>
            <a:prstGeom prst="pie">
              <a:avLst/>
            </a:pr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SMARTPenAnnotation259"/>
            <p:cNvSpPr/>
            <p:nvPr/>
          </p:nvSpPr>
          <p:spPr>
            <a:xfrm>
              <a:off x="2127240" y="1417680"/>
              <a:ext cx="228600" cy="80640"/>
            </a:xfrm>
            <a:prstGeom prst="pie">
              <a:avLst/>
            </a:pr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SMARTPenAnnotation260"/>
            <p:cNvSpPr/>
            <p:nvPr/>
          </p:nvSpPr>
          <p:spPr>
            <a:xfrm>
              <a:off x="2127240" y="1521000"/>
              <a:ext cx="228600" cy="102960"/>
            </a:xfrm>
            <a:prstGeom prst="pie">
              <a:avLst/>
            </a:pr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SMARTPenAnnotation261"/>
            <p:cNvSpPr/>
            <p:nvPr/>
          </p:nvSpPr>
          <p:spPr>
            <a:xfrm>
              <a:off x="2643120" y="1146240"/>
              <a:ext cx="284040" cy="636480"/>
            </a:xfrm>
            <a:prstGeom prst="pie">
              <a:avLst/>
            </a:pr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SMARTPenAnnotation262"/>
            <p:cNvSpPr/>
            <p:nvPr/>
          </p:nvSpPr>
          <p:spPr>
            <a:xfrm>
              <a:off x="2949480" y="1417680"/>
              <a:ext cx="239400" cy="239760"/>
            </a:xfrm>
            <a:prstGeom prst="pie">
              <a:avLst/>
            </a:pr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SMARTPenAnnotation263"/>
            <p:cNvSpPr/>
            <p:nvPr/>
          </p:nvSpPr>
          <p:spPr>
            <a:xfrm>
              <a:off x="2914560" y="1417680"/>
              <a:ext cx="241200" cy="320760"/>
            </a:xfrm>
            <a:prstGeom prst="pie">
              <a:avLst/>
            </a:pr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SMARTPenAnnotation264"/>
            <p:cNvSpPr/>
            <p:nvPr/>
          </p:nvSpPr>
          <p:spPr>
            <a:xfrm>
              <a:off x="3406680" y="1235160"/>
              <a:ext cx="21960" cy="571680"/>
            </a:xfrm>
            <a:prstGeom prst="pie">
              <a:avLst/>
            </a:pr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SMARTPenAnnotation265"/>
            <p:cNvSpPr/>
            <p:nvPr/>
          </p:nvSpPr>
          <p:spPr>
            <a:xfrm>
              <a:off x="4218120" y="1384200"/>
              <a:ext cx="206280" cy="204840"/>
            </a:xfrm>
            <a:prstGeom prst="pie">
              <a:avLst/>
            </a:pr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SMARTPenAnnotation266"/>
            <p:cNvSpPr/>
            <p:nvPr/>
          </p:nvSpPr>
          <p:spPr>
            <a:xfrm>
              <a:off x="4149720" y="1428840"/>
              <a:ext cx="320400" cy="182520"/>
            </a:xfrm>
            <a:prstGeom prst="pie">
              <a:avLst/>
            </a:pr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SMARTPenAnnotation267"/>
            <p:cNvSpPr/>
            <p:nvPr/>
          </p:nvSpPr>
          <p:spPr>
            <a:xfrm>
              <a:off x="3841920" y="1406520"/>
              <a:ext cx="193680" cy="228600"/>
            </a:xfrm>
            <a:prstGeom prst="pie">
              <a:avLst/>
            </a:pr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SMARTPenAnnotation268"/>
            <p:cNvSpPr/>
            <p:nvPr/>
          </p:nvSpPr>
          <p:spPr>
            <a:xfrm>
              <a:off x="3795840" y="1738440"/>
              <a:ext cx="193680" cy="10800"/>
            </a:xfrm>
            <a:prstGeom prst="pie">
              <a:avLst/>
            </a:pr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SMARTPenAnnotation269"/>
            <p:cNvSpPr/>
            <p:nvPr/>
          </p:nvSpPr>
          <p:spPr>
            <a:xfrm>
              <a:off x="3521160" y="1589040"/>
              <a:ext cx="91800" cy="10800"/>
            </a:xfrm>
            <a:prstGeom prst="pie">
              <a:avLst/>
            </a:pr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SMARTPenAnnotation270"/>
            <p:cNvSpPr/>
            <p:nvPr/>
          </p:nvSpPr>
          <p:spPr>
            <a:xfrm>
              <a:off x="3624120" y="1486080"/>
              <a:ext cx="21960" cy="296640"/>
            </a:xfrm>
            <a:prstGeom prst="pie">
              <a:avLst/>
            </a:pr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SMARTPenAnnotation271"/>
            <p:cNvSpPr/>
            <p:nvPr/>
          </p:nvSpPr>
          <p:spPr>
            <a:xfrm>
              <a:off x="3705120" y="1509840"/>
              <a:ext cx="88560" cy="158760"/>
            </a:xfrm>
            <a:prstGeom prst="pie">
              <a:avLst/>
            </a:pr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SMARTPenAnnotation272"/>
            <p:cNvSpPr/>
            <p:nvPr/>
          </p:nvSpPr>
          <p:spPr>
            <a:xfrm>
              <a:off x="4573800" y="1452600"/>
              <a:ext cx="284040" cy="125280"/>
            </a:xfrm>
            <a:prstGeom prst="pie">
              <a:avLst/>
            </a:pr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SMARTPenAnnotation273"/>
            <p:cNvSpPr/>
            <p:nvPr/>
          </p:nvSpPr>
          <p:spPr>
            <a:xfrm>
              <a:off x="4527720" y="1692360"/>
              <a:ext cx="330120" cy="45720"/>
            </a:xfrm>
            <a:prstGeom prst="pie">
              <a:avLst/>
            </a:pr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SMARTPenAnnotation274"/>
            <p:cNvSpPr/>
            <p:nvPr/>
          </p:nvSpPr>
          <p:spPr>
            <a:xfrm>
              <a:off x="4950000" y="1384200"/>
              <a:ext cx="68040" cy="353880"/>
            </a:xfrm>
            <a:prstGeom prst="pie">
              <a:avLst/>
            </a:pr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SMARTPenAnnotation275"/>
            <p:cNvSpPr/>
            <p:nvPr/>
          </p:nvSpPr>
          <p:spPr>
            <a:xfrm>
              <a:off x="5099040" y="1463760"/>
              <a:ext cx="191880" cy="226800"/>
            </a:xfrm>
            <a:prstGeom prst="pie">
              <a:avLst/>
            </a:pr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SMARTPenAnnotation276"/>
            <p:cNvSpPr/>
            <p:nvPr/>
          </p:nvSpPr>
          <p:spPr>
            <a:xfrm>
              <a:off x="5200560" y="1292040"/>
              <a:ext cx="263520" cy="525600"/>
            </a:xfrm>
            <a:prstGeom prst="pie">
              <a:avLst/>
            </a:pr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5" name="Group 49"/>
          <p:cNvGrpSpPr/>
          <p:nvPr/>
        </p:nvGrpSpPr>
        <p:grpSpPr>
          <a:xfrm>
            <a:off x="2857680" y="2184480"/>
            <a:ext cx="3084480" cy="637920"/>
            <a:chOff x="2857680" y="2184480"/>
            <a:chExt cx="3084480" cy="637920"/>
          </a:xfrm>
        </p:grpSpPr>
        <p:sp>
          <p:nvSpPr>
            <p:cNvPr id="796" name="SMARTPenAnnotation277"/>
            <p:cNvSpPr/>
            <p:nvPr/>
          </p:nvSpPr>
          <p:spPr>
            <a:xfrm>
              <a:off x="2857680" y="2241360"/>
              <a:ext cx="239400" cy="409320"/>
            </a:xfrm>
            <a:prstGeom prst="pie">
              <a:avLst/>
            </a:prstGeom>
            <a:noFill/>
            <a:ln w="38160">
              <a:solidFill>
                <a:srgbClr val="009d4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SMARTPenAnnotation278"/>
            <p:cNvSpPr/>
            <p:nvPr/>
          </p:nvSpPr>
          <p:spPr>
            <a:xfrm>
              <a:off x="3108240" y="2492280"/>
              <a:ext cx="149040" cy="33120"/>
            </a:xfrm>
            <a:prstGeom prst="pie">
              <a:avLst/>
            </a:prstGeom>
            <a:noFill/>
            <a:ln w="38160">
              <a:solidFill>
                <a:srgbClr val="009d4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SMARTPenAnnotation279"/>
            <p:cNvSpPr/>
            <p:nvPr/>
          </p:nvSpPr>
          <p:spPr>
            <a:xfrm>
              <a:off x="3143160" y="2571840"/>
              <a:ext cx="102960" cy="10800"/>
            </a:xfrm>
            <a:prstGeom prst="pie">
              <a:avLst/>
            </a:prstGeom>
            <a:noFill/>
            <a:ln w="38160">
              <a:solidFill>
                <a:srgbClr val="009d4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SMARTPenAnnotation280"/>
            <p:cNvSpPr/>
            <p:nvPr/>
          </p:nvSpPr>
          <p:spPr>
            <a:xfrm>
              <a:off x="3336840" y="2184480"/>
              <a:ext cx="228600" cy="523800"/>
            </a:xfrm>
            <a:prstGeom prst="pie">
              <a:avLst/>
            </a:prstGeom>
            <a:noFill/>
            <a:ln w="38160">
              <a:solidFill>
                <a:srgbClr val="009d4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SMARTPenAnnotation281"/>
            <p:cNvSpPr/>
            <p:nvPr/>
          </p:nvSpPr>
          <p:spPr>
            <a:xfrm>
              <a:off x="3511440" y="2419200"/>
              <a:ext cx="190440" cy="357120"/>
            </a:xfrm>
            <a:prstGeom prst="pie">
              <a:avLst/>
            </a:prstGeom>
            <a:noFill/>
            <a:ln w="38160">
              <a:solidFill>
                <a:srgbClr val="009d4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SMARTPenAnnotation282"/>
            <p:cNvSpPr/>
            <p:nvPr/>
          </p:nvSpPr>
          <p:spPr>
            <a:xfrm>
              <a:off x="3783240" y="2217600"/>
              <a:ext cx="34920" cy="490320"/>
            </a:xfrm>
            <a:prstGeom prst="pie">
              <a:avLst/>
            </a:prstGeom>
            <a:noFill/>
            <a:ln w="38160">
              <a:solidFill>
                <a:srgbClr val="009d4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SMARTPenAnnotation283"/>
            <p:cNvSpPr/>
            <p:nvPr/>
          </p:nvSpPr>
          <p:spPr>
            <a:xfrm>
              <a:off x="3954600" y="2479680"/>
              <a:ext cx="149040" cy="23760"/>
            </a:xfrm>
            <a:prstGeom prst="pie">
              <a:avLst/>
            </a:prstGeom>
            <a:noFill/>
            <a:ln w="38160">
              <a:solidFill>
                <a:srgbClr val="009d4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SMARTPenAnnotation284"/>
            <p:cNvSpPr/>
            <p:nvPr/>
          </p:nvSpPr>
          <p:spPr>
            <a:xfrm>
              <a:off x="4172040" y="2286000"/>
              <a:ext cx="187200" cy="274680"/>
            </a:xfrm>
            <a:prstGeom prst="pie">
              <a:avLst/>
            </a:prstGeom>
            <a:noFill/>
            <a:ln w="38160">
              <a:solidFill>
                <a:srgbClr val="009d4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SMARTPenAnnotation285"/>
            <p:cNvSpPr/>
            <p:nvPr/>
          </p:nvSpPr>
          <p:spPr>
            <a:xfrm>
              <a:off x="4424400" y="2311200"/>
              <a:ext cx="215640" cy="191880"/>
            </a:xfrm>
            <a:prstGeom prst="pie">
              <a:avLst/>
            </a:prstGeom>
            <a:noFill/>
            <a:ln w="38160">
              <a:solidFill>
                <a:srgbClr val="009d4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SMARTPenAnnotation286"/>
            <p:cNvSpPr/>
            <p:nvPr/>
          </p:nvSpPr>
          <p:spPr>
            <a:xfrm>
              <a:off x="4400640" y="2583000"/>
              <a:ext cx="285480" cy="34920"/>
            </a:xfrm>
            <a:prstGeom prst="pie">
              <a:avLst/>
            </a:prstGeom>
            <a:noFill/>
            <a:ln w="38160">
              <a:solidFill>
                <a:srgbClr val="009d4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SMARTPenAnnotation287"/>
            <p:cNvSpPr/>
            <p:nvPr/>
          </p:nvSpPr>
          <p:spPr>
            <a:xfrm>
              <a:off x="4583160" y="2396880"/>
              <a:ext cx="355320" cy="425520"/>
            </a:xfrm>
            <a:prstGeom prst="pie">
              <a:avLst/>
            </a:prstGeom>
            <a:noFill/>
            <a:ln w="38160">
              <a:solidFill>
                <a:srgbClr val="009d4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SMARTPenAnnotation288"/>
            <p:cNvSpPr/>
            <p:nvPr/>
          </p:nvSpPr>
          <p:spPr>
            <a:xfrm>
              <a:off x="5043600" y="2378160"/>
              <a:ext cx="284040" cy="112680"/>
            </a:xfrm>
            <a:prstGeom prst="pie">
              <a:avLst/>
            </a:prstGeom>
            <a:noFill/>
            <a:ln w="38160">
              <a:solidFill>
                <a:srgbClr val="009d4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SMARTPenAnnotation289"/>
            <p:cNvSpPr/>
            <p:nvPr/>
          </p:nvSpPr>
          <p:spPr>
            <a:xfrm>
              <a:off x="5053320" y="2571840"/>
              <a:ext cx="274320" cy="34920"/>
            </a:xfrm>
            <a:prstGeom prst="pie">
              <a:avLst/>
            </a:prstGeom>
            <a:noFill/>
            <a:ln w="38160">
              <a:solidFill>
                <a:srgbClr val="009d4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SMARTPenAnnotation290"/>
            <p:cNvSpPr/>
            <p:nvPr/>
          </p:nvSpPr>
          <p:spPr>
            <a:xfrm>
              <a:off x="5418360" y="2274840"/>
              <a:ext cx="291960" cy="342720"/>
            </a:xfrm>
            <a:prstGeom prst="pie">
              <a:avLst/>
            </a:prstGeom>
            <a:noFill/>
            <a:ln w="38160">
              <a:solidFill>
                <a:srgbClr val="009d4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SMARTPenAnnotation291"/>
            <p:cNvSpPr/>
            <p:nvPr/>
          </p:nvSpPr>
          <p:spPr>
            <a:xfrm>
              <a:off x="5624640" y="2276280"/>
              <a:ext cx="317520" cy="511200"/>
            </a:xfrm>
            <a:prstGeom prst="pie">
              <a:avLst/>
            </a:prstGeom>
            <a:noFill/>
            <a:ln w="38160">
              <a:solidFill>
                <a:srgbClr val="009d4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1" name="Group 70"/>
          <p:cNvGrpSpPr/>
          <p:nvPr/>
        </p:nvGrpSpPr>
        <p:grpSpPr>
          <a:xfrm>
            <a:off x="6915240" y="4389480"/>
            <a:ext cx="1663560" cy="1404720"/>
            <a:chOff x="6915240" y="4389480"/>
            <a:chExt cx="1663560" cy="1404720"/>
          </a:xfrm>
        </p:grpSpPr>
        <p:sp>
          <p:nvSpPr>
            <p:cNvPr id="812" name="SMARTPenAnnotation292"/>
            <p:cNvSpPr/>
            <p:nvPr/>
          </p:nvSpPr>
          <p:spPr>
            <a:xfrm>
              <a:off x="7165800" y="4402080"/>
              <a:ext cx="160200" cy="591840"/>
            </a:xfrm>
            <a:prstGeom prst="pie">
              <a:avLst/>
            </a:pr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SMARTPenAnnotation293"/>
            <p:cNvSpPr/>
            <p:nvPr/>
          </p:nvSpPr>
          <p:spPr>
            <a:xfrm>
              <a:off x="6972120" y="4789440"/>
              <a:ext cx="285480" cy="21960"/>
            </a:xfrm>
            <a:prstGeom prst="pie">
              <a:avLst/>
            </a:pr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SMARTPenAnnotation294"/>
            <p:cNvSpPr/>
            <p:nvPr/>
          </p:nvSpPr>
          <p:spPr>
            <a:xfrm>
              <a:off x="7329600" y="4462200"/>
              <a:ext cx="134640" cy="430200"/>
            </a:xfrm>
            <a:prstGeom prst="pie">
              <a:avLst/>
            </a:pr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SMARTPenAnnotation295"/>
            <p:cNvSpPr/>
            <p:nvPr/>
          </p:nvSpPr>
          <p:spPr>
            <a:xfrm>
              <a:off x="7488360" y="4554360"/>
              <a:ext cx="88560" cy="277560"/>
            </a:xfrm>
            <a:prstGeom prst="pie">
              <a:avLst/>
            </a:pr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SMARTPenAnnotation296"/>
            <p:cNvSpPr/>
            <p:nvPr/>
          </p:nvSpPr>
          <p:spPr>
            <a:xfrm>
              <a:off x="7566120" y="4389480"/>
              <a:ext cx="201600" cy="525240"/>
            </a:xfrm>
            <a:prstGeom prst="pie">
              <a:avLst/>
            </a:pr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SMARTPenAnnotation297"/>
            <p:cNvSpPr/>
            <p:nvPr/>
          </p:nvSpPr>
          <p:spPr>
            <a:xfrm>
              <a:off x="7064280" y="4765680"/>
              <a:ext cx="261720" cy="33120"/>
            </a:xfrm>
            <a:prstGeom prst="pie">
              <a:avLst/>
            </a:pr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SMARTPenAnnotation298"/>
            <p:cNvSpPr/>
            <p:nvPr/>
          </p:nvSpPr>
          <p:spPr>
            <a:xfrm>
              <a:off x="7886880" y="4608360"/>
              <a:ext cx="114120" cy="20520"/>
            </a:xfrm>
            <a:prstGeom prst="pie">
              <a:avLst/>
            </a:pr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SMARTPenAnnotation299"/>
            <p:cNvSpPr/>
            <p:nvPr/>
          </p:nvSpPr>
          <p:spPr>
            <a:xfrm>
              <a:off x="7864560" y="4708440"/>
              <a:ext cx="182520" cy="12600"/>
            </a:xfrm>
            <a:prstGeom prst="pie">
              <a:avLst/>
            </a:pr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SMARTPenAnnotation300"/>
            <p:cNvSpPr/>
            <p:nvPr/>
          </p:nvSpPr>
          <p:spPr>
            <a:xfrm>
              <a:off x="8161560" y="4618080"/>
              <a:ext cx="125280" cy="10800"/>
            </a:xfrm>
            <a:prstGeom prst="pie">
              <a:avLst/>
            </a:pr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SMARTPenAnnotation301"/>
            <p:cNvSpPr/>
            <p:nvPr/>
          </p:nvSpPr>
          <p:spPr>
            <a:xfrm>
              <a:off x="8286840" y="4389480"/>
              <a:ext cx="291960" cy="374400"/>
            </a:xfrm>
            <a:prstGeom prst="pie">
              <a:avLst/>
            </a:pr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SMARTPenAnnotation302"/>
            <p:cNvSpPr/>
            <p:nvPr/>
          </p:nvSpPr>
          <p:spPr>
            <a:xfrm>
              <a:off x="7040520" y="5227560"/>
              <a:ext cx="171360" cy="566640"/>
            </a:xfrm>
            <a:prstGeom prst="pie">
              <a:avLst/>
            </a:pr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SMARTPenAnnotation303"/>
            <p:cNvSpPr/>
            <p:nvPr/>
          </p:nvSpPr>
          <p:spPr>
            <a:xfrm>
              <a:off x="6915240" y="5587920"/>
              <a:ext cx="296640" cy="69840"/>
            </a:xfrm>
            <a:prstGeom prst="pie">
              <a:avLst/>
            </a:pr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SMARTPenAnnotation304"/>
            <p:cNvSpPr/>
            <p:nvPr/>
          </p:nvSpPr>
          <p:spPr>
            <a:xfrm>
              <a:off x="7315200" y="5165640"/>
              <a:ext cx="125280" cy="477720"/>
            </a:xfrm>
            <a:prstGeom prst="pie">
              <a:avLst/>
            </a:pr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SMARTPenAnnotation305"/>
            <p:cNvSpPr/>
            <p:nvPr/>
          </p:nvSpPr>
          <p:spPr>
            <a:xfrm>
              <a:off x="7418520" y="5361120"/>
              <a:ext cx="193680" cy="231480"/>
            </a:xfrm>
            <a:prstGeom prst="pie">
              <a:avLst/>
            </a:pr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SMARTPenAnnotation306"/>
            <p:cNvSpPr/>
            <p:nvPr/>
          </p:nvSpPr>
          <p:spPr>
            <a:xfrm>
              <a:off x="7554960" y="5189400"/>
              <a:ext cx="193680" cy="433080"/>
            </a:xfrm>
            <a:prstGeom prst="pie">
              <a:avLst/>
            </a:pr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SMARTPenAnnotation307"/>
            <p:cNvSpPr/>
            <p:nvPr/>
          </p:nvSpPr>
          <p:spPr>
            <a:xfrm>
              <a:off x="7840800" y="5189400"/>
              <a:ext cx="228600" cy="68040"/>
            </a:xfrm>
            <a:prstGeom prst="pie">
              <a:avLst/>
            </a:pr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SMARTPenAnnotation308"/>
            <p:cNvSpPr/>
            <p:nvPr/>
          </p:nvSpPr>
          <p:spPr>
            <a:xfrm>
              <a:off x="7897680" y="5280120"/>
              <a:ext cx="217440" cy="68040"/>
            </a:xfrm>
            <a:prstGeom prst="pie">
              <a:avLst/>
            </a:pr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SMARTPenAnnotation309"/>
            <p:cNvSpPr/>
            <p:nvPr/>
          </p:nvSpPr>
          <p:spPr>
            <a:xfrm>
              <a:off x="8194680" y="5040360"/>
              <a:ext cx="252360" cy="399960"/>
            </a:xfrm>
            <a:prstGeom prst="pie">
              <a:avLst/>
            </a:pr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SMARTPenAnnotation310"/>
            <p:cNvSpPr/>
            <p:nvPr/>
          </p:nvSpPr>
          <p:spPr>
            <a:xfrm>
              <a:off x="8093160" y="5211720"/>
              <a:ext cx="90360" cy="21960"/>
            </a:xfrm>
            <a:prstGeom prst="pie">
              <a:avLst/>
            </a:pr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" dur="20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c1c1c"/>
                </a:solidFill>
                <a:latin typeface="Bleeding Cowboys"/>
              </a:rPr>
              <a:t>Your assignment</a:t>
            </a:r>
            <a:endParaRPr b="1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ge 42-45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#20-5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#53-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#63-7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SMARTPenAnnotation609"/>
          <p:cNvSpPr/>
          <p:nvPr/>
        </p:nvSpPr>
        <p:spPr>
          <a:xfrm>
            <a:off x="1978200" y="892080"/>
            <a:ext cx="21960" cy="59400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SMARTPenAnnotation610"/>
          <p:cNvSpPr/>
          <p:nvPr/>
        </p:nvSpPr>
        <p:spPr>
          <a:xfrm>
            <a:off x="2139840" y="870120"/>
            <a:ext cx="271440" cy="64584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SMARTPenAnnotation611"/>
          <p:cNvSpPr/>
          <p:nvPr/>
        </p:nvSpPr>
        <p:spPr>
          <a:xfrm>
            <a:off x="2606760" y="892080"/>
            <a:ext cx="282600" cy="5587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SMARTPenAnnotation612"/>
          <p:cNvSpPr/>
          <p:nvPr/>
        </p:nvSpPr>
        <p:spPr>
          <a:xfrm>
            <a:off x="2962440" y="914400"/>
            <a:ext cx="430200" cy="52560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SMARTPenAnnotation613"/>
          <p:cNvSpPr/>
          <p:nvPr/>
        </p:nvSpPr>
        <p:spPr>
          <a:xfrm>
            <a:off x="1890720" y="2068560"/>
            <a:ext cx="74520" cy="59544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SMARTPenAnnotation614"/>
          <p:cNvSpPr/>
          <p:nvPr/>
        </p:nvSpPr>
        <p:spPr>
          <a:xfrm>
            <a:off x="2173320" y="2023920"/>
            <a:ext cx="284040" cy="6843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SMARTPenAnnotation615"/>
          <p:cNvSpPr/>
          <p:nvPr/>
        </p:nvSpPr>
        <p:spPr>
          <a:xfrm>
            <a:off x="2813040" y="2022480"/>
            <a:ext cx="262080" cy="60660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SMARTPenAnnotation616"/>
          <p:cNvSpPr/>
          <p:nvPr/>
        </p:nvSpPr>
        <p:spPr>
          <a:xfrm>
            <a:off x="3268800" y="1965240"/>
            <a:ext cx="388800" cy="53820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SMARTPenAnnotation617"/>
          <p:cNvSpPr/>
          <p:nvPr/>
        </p:nvSpPr>
        <p:spPr>
          <a:xfrm>
            <a:off x="2011320" y="3097080"/>
            <a:ext cx="57240" cy="63828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SMARTPenAnnotation618"/>
          <p:cNvSpPr/>
          <p:nvPr/>
        </p:nvSpPr>
        <p:spPr>
          <a:xfrm>
            <a:off x="2243160" y="3121200"/>
            <a:ext cx="328680" cy="66348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SMARTPenAnnotation619"/>
          <p:cNvSpPr/>
          <p:nvPr/>
        </p:nvSpPr>
        <p:spPr>
          <a:xfrm>
            <a:off x="2916360" y="3132000"/>
            <a:ext cx="272880" cy="58284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SMARTPenAnnotation620"/>
          <p:cNvSpPr/>
          <p:nvPr/>
        </p:nvSpPr>
        <p:spPr>
          <a:xfrm>
            <a:off x="3279600" y="3075120"/>
            <a:ext cx="320760" cy="5601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SMARTPenAnnotation621"/>
          <p:cNvSpPr/>
          <p:nvPr/>
        </p:nvSpPr>
        <p:spPr>
          <a:xfrm>
            <a:off x="4297320" y="646200"/>
            <a:ext cx="318960" cy="6001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SMARTPenAnnotation622"/>
          <p:cNvSpPr/>
          <p:nvPr/>
        </p:nvSpPr>
        <p:spPr>
          <a:xfrm>
            <a:off x="4619520" y="708120"/>
            <a:ext cx="238320" cy="43488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SMARTPenAnnotation623"/>
          <p:cNvSpPr/>
          <p:nvPr/>
        </p:nvSpPr>
        <p:spPr>
          <a:xfrm>
            <a:off x="4840200" y="606600"/>
            <a:ext cx="428760" cy="6537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SMARTPenAnnotation624"/>
          <p:cNvSpPr/>
          <p:nvPr/>
        </p:nvSpPr>
        <p:spPr>
          <a:xfrm>
            <a:off x="5156280" y="1211400"/>
            <a:ext cx="9360" cy="1141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SMARTPenAnnotation625"/>
          <p:cNvSpPr/>
          <p:nvPr/>
        </p:nvSpPr>
        <p:spPr>
          <a:xfrm>
            <a:off x="5349960" y="731880"/>
            <a:ext cx="193680" cy="4683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SMARTPenAnnotation626"/>
          <p:cNvSpPr/>
          <p:nvPr/>
        </p:nvSpPr>
        <p:spPr>
          <a:xfrm>
            <a:off x="5611680" y="736560"/>
            <a:ext cx="320760" cy="4809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SMARTPenAnnotation627"/>
          <p:cNvSpPr/>
          <p:nvPr/>
        </p:nvSpPr>
        <p:spPr>
          <a:xfrm>
            <a:off x="5978520" y="725400"/>
            <a:ext cx="57240" cy="5367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SMARTPenAnnotation628"/>
          <p:cNvSpPr/>
          <p:nvPr/>
        </p:nvSpPr>
        <p:spPr>
          <a:xfrm>
            <a:off x="4172040" y="1714680"/>
            <a:ext cx="377640" cy="2505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SMARTPenAnnotation629"/>
          <p:cNvSpPr/>
          <p:nvPr/>
        </p:nvSpPr>
        <p:spPr>
          <a:xfrm>
            <a:off x="4468680" y="1703520"/>
            <a:ext cx="24120" cy="53640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SMARTPenAnnotation630"/>
          <p:cNvSpPr/>
          <p:nvPr/>
        </p:nvSpPr>
        <p:spPr>
          <a:xfrm>
            <a:off x="4697280" y="1806480"/>
            <a:ext cx="274680" cy="3873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SMARTPenAnnotation631"/>
          <p:cNvSpPr/>
          <p:nvPr/>
        </p:nvSpPr>
        <p:spPr>
          <a:xfrm>
            <a:off x="5046840" y="1736640"/>
            <a:ext cx="323640" cy="412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SMARTPenAnnotation632"/>
          <p:cNvSpPr/>
          <p:nvPr/>
        </p:nvSpPr>
        <p:spPr>
          <a:xfrm>
            <a:off x="5394240" y="2103480"/>
            <a:ext cx="19080" cy="13644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SMARTPenAnnotation633"/>
          <p:cNvSpPr/>
          <p:nvPr/>
        </p:nvSpPr>
        <p:spPr>
          <a:xfrm>
            <a:off x="5500800" y="1793880"/>
            <a:ext cx="177840" cy="37800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SMARTPenAnnotation634"/>
          <p:cNvSpPr/>
          <p:nvPr/>
        </p:nvSpPr>
        <p:spPr>
          <a:xfrm>
            <a:off x="5761080" y="1760400"/>
            <a:ext cx="169920" cy="36540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SMARTPenAnnotation635"/>
          <p:cNvSpPr/>
          <p:nvPr/>
        </p:nvSpPr>
        <p:spPr>
          <a:xfrm>
            <a:off x="5921280" y="1760400"/>
            <a:ext cx="314280" cy="3747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SMARTPenAnnotation636"/>
          <p:cNvSpPr/>
          <p:nvPr/>
        </p:nvSpPr>
        <p:spPr>
          <a:xfrm>
            <a:off x="4971960" y="3143160"/>
            <a:ext cx="79560" cy="65088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SMARTPenAnnotation637"/>
          <p:cNvSpPr/>
          <p:nvPr/>
        </p:nvSpPr>
        <p:spPr>
          <a:xfrm>
            <a:off x="4846680" y="3111480"/>
            <a:ext cx="382680" cy="2919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SMARTPenAnnotation638"/>
          <p:cNvSpPr/>
          <p:nvPr/>
        </p:nvSpPr>
        <p:spPr>
          <a:xfrm>
            <a:off x="2641680" y="149400"/>
            <a:ext cx="284040" cy="38700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SMARTPenAnnotation639"/>
          <p:cNvSpPr/>
          <p:nvPr/>
        </p:nvSpPr>
        <p:spPr>
          <a:xfrm>
            <a:off x="2606760" y="114480"/>
            <a:ext cx="387360" cy="54900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SMARTPenAnnotation640"/>
          <p:cNvSpPr/>
          <p:nvPr/>
        </p:nvSpPr>
        <p:spPr>
          <a:xfrm>
            <a:off x="4675320" y="88920"/>
            <a:ext cx="365040" cy="37944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SMARTPenAnnotation641"/>
          <p:cNvSpPr/>
          <p:nvPr/>
        </p:nvSpPr>
        <p:spPr>
          <a:xfrm>
            <a:off x="4411800" y="4206960"/>
            <a:ext cx="91800" cy="50148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SMARTPenAnnotation642"/>
          <p:cNvSpPr/>
          <p:nvPr/>
        </p:nvSpPr>
        <p:spPr>
          <a:xfrm>
            <a:off x="4378320" y="4114800"/>
            <a:ext cx="295200" cy="2635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SMARTPenAnnotation643"/>
          <p:cNvSpPr/>
          <p:nvPr/>
        </p:nvSpPr>
        <p:spPr>
          <a:xfrm>
            <a:off x="4846680" y="4206960"/>
            <a:ext cx="318960" cy="4428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SMARTPenAnnotation644"/>
          <p:cNvSpPr/>
          <p:nvPr/>
        </p:nvSpPr>
        <p:spPr>
          <a:xfrm>
            <a:off x="4984920" y="4125960"/>
            <a:ext cx="55440" cy="331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SMARTPenAnnotation645"/>
          <p:cNvSpPr/>
          <p:nvPr/>
        </p:nvSpPr>
        <p:spPr>
          <a:xfrm>
            <a:off x="5303880" y="3921120"/>
            <a:ext cx="239760" cy="44460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SMARTPenAnnotation646"/>
          <p:cNvSpPr/>
          <p:nvPr/>
        </p:nvSpPr>
        <p:spPr>
          <a:xfrm>
            <a:off x="5589720" y="3971880"/>
            <a:ext cx="101520" cy="2880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7640" bIns="-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SMARTPenAnnotation647"/>
          <p:cNvSpPr/>
          <p:nvPr/>
        </p:nvSpPr>
        <p:spPr>
          <a:xfrm>
            <a:off x="5657760" y="4229280"/>
            <a:ext cx="68400" cy="7920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SMARTPenAnnotation648"/>
          <p:cNvSpPr/>
          <p:nvPr/>
        </p:nvSpPr>
        <p:spPr>
          <a:xfrm>
            <a:off x="5829480" y="4264200"/>
            <a:ext cx="10800" cy="1080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SMARTPenAnnotation649"/>
          <p:cNvSpPr/>
          <p:nvPr/>
        </p:nvSpPr>
        <p:spPr>
          <a:xfrm>
            <a:off x="5554800" y="3944880"/>
            <a:ext cx="399960" cy="36360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SMARTPenAnnotation650"/>
          <p:cNvSpPr/>
          <p:nvPr/>
        </p:nvSpPr>
        <p:spPr>
          <a:xfrm>
            <a:off x="5910120" y="3863880"/>
            <a:ext cx="227160" cy="4683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SMARTPenAnnotation651"/>
          <p:cNvSpPr/>
          <p:nvPr/>
        </p:nvSpPr>
        <p:spPr>
          <a:xfrm>
            <a:off x="6218280" y="4297320"/>
            <a:ext cx="11160" cy="1605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SMARTPenAnnotation652"/>
          <p:cNvSpPr/>
          <p:nvPr/>
        </p:nvSpPr>
        <p:spPr>
          <a:xfrm>
            <a:off x="6297480" y="3897360"/>
            <a:ext cx="182520" cy="42048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SMARTPenAnnotation653"/>
          <p:cNvSpPr/>
          <p:nvPr/>
        </p:nvSpPr>
        <p:spPr>
          <a:xfrm>
            <a:off x="6550200" y="3886200"/>
            <a:ext cx="193680" cy="38880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SMARTPenAnnotation654"/>
          <p:cNvSpPr/>
          <p:nvPr/>
        </p:nvSpPr>
        <p:spPr>
          <a:xfrm>
            <a:off x="6823080" y="3875040"/>
            <a:ext cx="23760" cy="42228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SMARTPenAnnotation655"/>
          <p:cNvSpPr/>
          <p:nvPr/>
        </p:nvSpPr>
        <p:spPr>
          <a:xfrm>
            <a:off x="4092480" y="4321080"/>
            <a:ext cx="2998800" cy="3301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SMARTPenAnnotation656"/>
          <p:cNvSpPr/>
          <p:nvPr/>
        </p:nvSpPr>
        <p:spPr>
          <a:xfrm>
            <a:off x="5411880" y="4711680"/>
            <a:ext cx="291960" cy="26028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SMARTPenAnnotation657"/>
          <p:cNvSpPr/>
          <p:nvPr/>
        </p:nvSpPr>
        <p:spPr>
          <a:xfrm>
            <a:off x="7211880" y="4125960"/>
            <a:ext cx="217800" cy="111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SMARTPenAnnotation658"/>
          <p:cNvSpPr/>
          <p:nvPr/>
        </p:nvSpPr>
        <p:spPr>
          <a:xfrm>
            <a:off x="7223040" y="4264200"/>
            <a:ext cx="274680" cy="4428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SMARTPenAnnotation659"/>
          <p:cNvSpPr/>
          <p:nvPr/>
        </p:nvSpPr>
        <p:spPr>
          <a:xfrm>
            <a:off x="7629480" y="3954600"/>
            <a:ext cx="222120" cy="20628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SMARTPenAnnotation660"/>
          <p:cNvSpPr/>
          <p:nvPr/>
        </p:nvSpPr>
        <p:spPr>
          <a:xfrm>
            <a:off x="7751880" y="3943440"/>
            <a:ext cx="31680" cy="42228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SMARTPenAnnotation661"/>
          <p:cNvSpPr/>
          <p:nvPr/>
        </p:nvSpPr>
        <p:spPr>
          <a:xfrm>
            <a:off x="7840800" y="3843360"/>
            <a:ext cx="160200" cy="41760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SMARTPenAnnotation662"/>
          <p:cNvSpPr/>
          <p:nvPr/>
        </p:nvSpPr>
        <p:spPr>
          <a:xfrm>
            <a:off x="8093160" y="3794040"/>
            <a:ext cx="177840" cy="3999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SMARTPenAnnotation663"/>
          <p:cNvSpPr/>
          <p:nvPr/>
        </p:nvSpPr>
        <p:spPr>
          <a:xfrm>
            <a:off x="8344080" y="4103640"/>
            <a:ext cx="34920" cy="1825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SMARTPenAnnotation664"/>
          <p:cNvSpPr/>
          <p:nvPr/>
        </p:nvSpPr>
        <p:spPr>
          <a:xfrm>
            <a:off x="8483760" y="3828960"/>
            <a:ext cx="156960" cy="4431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SMARTPenAnnotation665"/>
          <p:cNvSpPr/>
          <p:nvPr/>
        </p:nvSpPr>
        <p:spPr>
          <a:xfrm>
            <a:off x="8744040" y="3794040"/>
            <a:ext cx="136440" cy="45720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SMARTPenAnnotation666"/>
          <p:cNvSpPr/>
          <p:nvPr/>
        </p:nvSpPr>
        <p:spPr>
          <a:xfrm>
            <a:off x="8994600" y="3794040"/>
            <a:ext cx="138240" cy="43524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Box 61"/>
          <p:cNvSpPr/>
          <p:nvPr/>
        </p:nvSpPr>
        <p:spPr>
          <a:xfrm>
            <a:off x="838080" y="9144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SMARTPenAnnotation595"/>
          <p:cNvSpPr/>
          <p:nvPr/>
        </p:nvSpPr>
        <p:spPr>
          <a:xfrm>
            <a:off x="5418000" y="1325520"/>
            <a:ext cx="468360" cy="37620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SMARTPenAnnotation596"/>
          <p:cNvSpPr/>
          <p:nvPr/>
        </p:nvSpPr>
        <p:spPr>
          <a:xfrm>
            <a:off x="7559640" y="1050840"/>
            <a:ext cx="246240" cy="61596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SMARTPenAnnotation597"/>
          <p:cNvSpPr/>
          <p:nvPr/>
        </p:nvSpPr>
        <p:spPr>
          <a:xfrm>
            <a:off x="5875200" y="1371600"/>
            <a:ext cx="308160" cy="3492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520" bIns="-11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SMARTPenAnnotation598"/>
          <p:cNvSpPr/>
          <p:nvPr/>
        </p:nvSpPr>
        <p:spPr>
          <a:xfrm>
            <a:off x="5943600" y="1474920"/>
            <a:ext cx="239760" cy="5544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SMARTPenAnnotation599"/>
          <p:cNvSpPr/>
          <p:nvPr/>
        </p:nvSpPr>
        <p:spPr>
          <a:xfrm>
            <a:off x="6332400" y="1165320"/>
            <a:ext cx="79560" cy="50940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SMARTPenAnnotation600"/>
          <p:cNvSpPr/>
          <p:nvPr/>
        </p:nvSpPr>
        <p:spPr>
          <a:xfrm>
            <a:off x="7908840" y="1382760"/>
            <a:ext cx="228600" cy="2232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SMARTPenAnnotation601"/>
          <p:cNvSpPr/>
          <p:nvPr/>
        </p:nvSpPr>
        <p:spPr>
          <a:xfrm>
            <a:off x="7908840" y="1474920"/>
            <a:ext cx="241560" cy="5544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SMARTPenAnnotation602"/>
          <p:cNvSpPr/>
          <p:nvPr/>
        </p:nvSpPr>
        <p:spPr>
          <a:xfrm>
            <a:off x="8308800" y="1193760"/>
            <a:ext cx="309600" cy="40644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SMARTPenAnnotation603"/>
          <p:cNvSpPr/>
          <p:nvPr/>
        </p:nvSpPr>
        <p:spPr>
          <a:xfrm>
            <a:off x="6022800" y="2320920"/>
            <a:ext cx="400320" cy="36504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SMARTPenAnnotation604"/>
          <p:cNvSpPr/>
          <p:nvPr/>
        </p:nvSpPr>
        <p:spPr>
          <a:xfrm>
            <a:off x="6515280" y="2492280"/>
            <a:ext cx="263520" cy="2232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SMARTPenAnnotation605"/>
          <p:cNvSpPr/>
          <p:nvPr/>
        </p:nvSpPr>
        <p:spPr>
          <a:xfrm>
            <a:off x="6594480" y="2354400"/>
            <a:ext cx="57240" cy="30960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SMARTPenAnnotation606"/>
          <p:cNvSpPr/>
          <p:nvPr/>
        </p:nvSpPr>
        <p:spPr>
          <a:xfrm>
            <a:off x="6800760" y="2217600"/>
            <a:ext cx="293760" cy="45720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SMARTPenAnnotation607"/>
          <p:cNvSpPr/>
          <p:nvPr/>
        </p:nvSpPr>
        <p:spPr>
          <a:xfrm>
            <a:off x="6022800" y="2835360"/>
            <a:ext cx="1292400" cy="4428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SMARTPenAnnotation608"/>
          <p:cNvSpPr/>
          <p:nvPr/>
        </p:nvSpPr>
        <p:spPr>
          <a:xfrm>
            <a:off x="6475320" y="2982960"/>
            <a:ext cx="360360" cy="36360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Box 15"/>
          <p:cNvSpPr/>
          <p:nvPr/>
        </p:nvSpPr>
        <p:spPr>
          <a:xfrm>
            <a:off x="1066680" y="12952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SMARTPenAnnotation443"/>
          <p:cNvSpPr/>
          <p:nvPr/>
        </p:nvSpPr>
        <p:spPr>
          <a:xfrm>
            <a:off x="1419120" y="379440"/>
            <a:ext cx="227160" cy="80784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SMARTPenAnnotation444"/>
          <p:cNvSpPr/>
          <p:nvPr/>
        </p:nvSpPr>
        <p:spPr>
          <a:xfrm>
            <a:off x="1727280" y="446040"/>
            <a:ext cx="204840" cy="59364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SMARTPenAnnotation445"/>
          <p:cNvSpPr/>
          <p:nvPr/>
        </p:nvSpPr>
        <p:spPr>
          <a:xfrm>
            <a:off x="1955880" y="561960"/>
            <a:ext cx="237960" cy="39384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SMARTPenAnnotation446"/>
          <p:cNvSpPr/>
          <p:nvPr/>
        </p:nvSpPr>
        <p:spPr>
          <a:xfrm>
            <a:off x="2297160" y="879480"/>
            <a:ext cx="11160" cy="14940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SMARTPenAnnotation447"/>
          <p:cNvSpPr/>
          <p:nvPr/>
        </p:nvSpPr>
        <p:spPr>
          <a:xfrm>
            <a:off x="2400480" y="582480"/>
            <a:ext cx="239400" cy="36360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SMARTPenAnnotation448"/>
          <p:cNvSpPr/>
          <p:nvPr/>
        </p:nvSpPr>
        <p:spPr>
          <a:xfrm>
            <a:off x="2651040" y="468360"/>
            <a:ext cx="228600" cy="5493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SMARTPenAnnotation449"/>
          <p:cNvSpPr/>
          <p:nvPr/>
        </p:nvSpPr>
        <p:spPr>
          <a:xfrm>
            <a:off x="2925720" y="925560"/>
            <a:ext cx="46080" cy="12528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SMARTPenAnnotation450"/>
          <p:cNvSpPr/>
          <p:nvPr/>
        </p:nvSpPr>
        <p:spPr>
          <a:xfrm>
            <a:off x="3160800" y="422280"/>
            <a:ext cx="164880" cy="5713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SMARTPenAnnotation451"/>
          <p:cNvSpPr/>
          <p:nvPr/>
        </p:nvSpPr>
        <p:spPr>
          <a:xfrm>
            <a:off x="3336840" y="765000"/>
            <a:ext cx="149400" cy="241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2320" bIns="-22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SMARTPenAnnotation452"/>
          <p:cNvSpPr/>
          <p:nvPr/>
        </p:nvSpPr>
        <p:spPr>
          <a:xfrm>
            <a:off x="3565440" y="423720"/>
            <a:ext cx="239760" cy="52560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SMARTPenAnnotation453"/>
          <p:cNvSpPr/>
          <p:nvPr/>
        </p:nvSpPr>
        <p:spPr>
          <a:xfrm>
            <a:off x="3863880" y="892080"/>
            <a:ext cx="31680" cy="1587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SMARTPenAnnotation454"/>
          <p:cNvSpPr/>
          <p:nvPr/>
        </p:nvSpPr>
        <p:spPr>
          <a:xfrm>
            <a:off x="3989520" y="536400"/>
            <a:ext cx="21960" cy="36684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SMARTPenAnnotation455"/>
          <p:cNvSpPr/>
          <p:nvPr/>
        </p:nvSpPr>
        <p:spPr>
          <a:xfrm>
            <a:off x="3978360" y="369720"/>
            <a:ext cx="169920" cy="63684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SMARTPenAnnotation456"/>
          <p:cNvSpPr/>
          <p:nvPr/>
        </p:nvSpPr>
        <p:spPr>
          <a:xfrm>
            <a:off x="4275000" y="971640"/>
            <a:ext cx="46080" cy="21744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SMARTPenAnnotation457"/>
          <p:cNvSpPr/>
          <p:nvPr/>
        </p:nvSpPr>
        <p:spPr>
          <a:xfrm>
            <a:off x="4475160" y="297000"/>
            <a:ext cx="119160" cy="77760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SMARTPenAnnotation458"/>
          <p:cNvSpPr/>
          <p:nvPr/>
        </p:nvSpPr>
        <p:spPr>
          <a:xfrm>
            <a:off x="4594320" y="789120"/>
            <a:ext cx="160200" cy="111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SMARTPenAnnotation459"/>
          <p:cNvSpPr/>
          <p:nvPr/>
        </p:nvSpPr>
        <p:spPr>
          <a:xfrm>
            <a:off x="4915080" y="468360"/>
            <a:ext cx="217440" cy="2523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SMARTPenAnnotation460"/>
          <p:cNvSpPr/>
          <p:nvPr/>
        </p:nvSpPr>
        <p:spPr>
          <a:xfrm>
            <a:off x="5086440" y="446040"/>
            <a:ext cx="33120" cy="6397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SMARTPenAnnotation461"/>
          <p:cNvSpPr/>
          <p:nvPr/>
        </p:nvSpPr>
        <p:spPr>
          <a:xfrm>
            <a:off x="5246640" y="1006560"/>
            <a:ext cx="11160" cy="1587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SMARTPenAnnotation462"/>
          <p:cNvSpPr/>
          <p:nvPr/>
        </p:nvSpPr>
        <p:spPr>
          <a:xfrm>
            <a:off x="5349960" y="811080"/>
            <a:ext cx="193680" cy="111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SMARTPenAnnotation463"/>
          <p:cNvSpPr/>
          <p:nvPr/>
        </p:nvSpPr>
        <p:spPr>
          <a:xfrm>
            <a:off x="5646600" y="468360"/>
            <a:ext cx="46080" cy="5713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SMARTPenAnnotation464"/>
          <p:cNvSpPr/>
          <p:nvPr/>
        </p:nvSpPr>
        <p:spPr>
          <a:xfrm>
            <a:off x="5715000" y="320760"/>
            <a:ext cx="262080" cy="81108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SMARTPenAnnotation465"/>
          <p:cNvSpPr/>
          <p:nvPr/>
        </p:nvSpPr>
        <p:spPr>
          <a:xfrm>
            <a:off x="5908680" y="949320"/>
            <a:ext cx="103320" cy="27288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SMARTPenAnnotation466"/>
          <p:cNvSpPr/>
          <p:nvPr/>
        </p:nvSpPr>
        <p:spPr>
          <a:xfrm>
            <a:off x="6149880" y="320760"/>
            <a:ext cx="182520" cy="6951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SMARTPenAnnotation467"/>
          <p:cNvSpPr/>
          <p:nvPr/>
        </p:nvSpPr>
        <p:spPr>
          <a:xfrm>
            <a:off x="6251400" y="685800"/>
            <a:ext cx="252720" cy="6840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SMARTPenAnnotation468"/>
          <p:cNvSpPr/>
          <p:nvPr/>
        </p:nvSpPr>
        <p:spPr>
          <a:xfrm>
            <a:off x="6651720" y="365040"/>
            <a:ext cx="34920" cy="66384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SMARTPenAnnotation469"/>
          <p:cNvSpPr/>
          <p:nvPr/>
        </p:nvSpPr>
        <p:spPr>
          <a:xfrm>
            <a:off x="6800760" y="949320"/>
            <a:ext cx="11160" cy="14760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SMARTPenAnnotation470"/>
          <p:cNvSpPr/>
          <p:nvPr/>
        </p:nvSpPr>
        <p:spPr>
          <a:xfrm>
            <a:off x="6800760" y="593640"/>
            <a:ext cx="279360" cy="37800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SMARTPenAnnotation471"/>
          <p:cNvSpPr/>
          <p:nvPr/>
        </p:nvSpPr>
        <p:spPr>
          <a:xfrm>
            <a:off x="7029360" y="411120"/>
            <a:ext cx="228600" cy="6969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SMARTPenAnnotation472"/>
          <p:cNvSpPr/>
          <p:nvPr/>
        </p:nvSpPr>
        <p:spPr>
          <a:xfrm>
            <a:off x="7223040" y="903240"/>
            <a:ext cx="92160" cy="21744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SMARTPenAnnotation473"/>
          <p:cNvSpPr/>
          <p:nvPr/>
        </p:nvSpPr>
        <p:spPr>
          <a:xfrm>
            <a:off x="7464600" y="436680"/>
            <a:ext cx="136440" cy="5443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SMARTPenAnnotation474"/>
          <p:cNvSpPr/>
          <p:nvPr/>
        </p:nvSpPr>
        <p:spPr>
          <a:xfrm>
            <a:off x="7623000" y="480960"/>
            <a:ext cx="206640" cy="44460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SMARTPenAnnotation475"/>
          <p:cNvSpPr/>
          <p:nvPr/>
        </p:nvSpPr>
        <p:spPr>
          <a:xfrm>
            <a:off x="7897680" y="835200"/>
            <a:ext cx="34920" cy="20448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SMARTPenAnnotation476"/>
          <p:cNvSpPr/>
          <p:nvPr/>
        </p:nvSpPr>
        <p:spPr>
          <a:xfrm>
            <a:off x="8035920" y="674640"/>
            <a:ext cx="171360" cy="3348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SMARTPenAnnotation477"/>
          <p:cNvSpPr/>
          <p:nvPr/>
        </p:nvSpPr>
        <p:spPr>
          <a:xfrm>
            <a:off x="8161200" y="434880"/>
            <a:ext cx="228600" cy="52884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SMARTPenAnnotation478"/>
          <p:cNvSpPr/>
          <p:nvPr/>
        </p:nvSpPr>
        <p:spPr>
          <a:xfrm>
            <a:off x="8379000" y="343080"/>
            <a:ext cx="171360" cy="6285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SMARTPenAnnotation479"/>
          <p:cNvSpPr/>
          <p:nvPr/>
        </p:nvSpPr>
        <p:spPr>
          <a:xfrm>
            <a:off x="8526600" y="217440"/>
            <a:ext cx="252360" cy="87948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SMARTPenAnnotation480"/>
          <p:cNvSpPr/>
          <p:nvPr/>
        </p:nvSpPr>
        <p:spPr>
          <a:xfrm>
            <a:off x="1166760" y="1819440"/>
            <a:ext cx="319320" cy="26028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SMARTPenAnnotation481"/>
          <p:cNvSpPr/>
          <p:nvPr/>
        </p:nvSpPr>
        <p:spPr>
          <a:xfrm>
            <a:off x="1268280" y="1622520"/>
            <a:ext cx="262080" cy="58428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SMARTPenAnnotation482"/>
          <p:cNvSpPr/>
          <p:nvPr/>
        </p:nvSpPr>
        <p:spPr>
          <a:xfrm>
            <a:off x="1841400" y="1643040"/>
            <a:ext cx="66600" cy="4255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SMARTPenAnnotation483"/>
          <p:cNvSpPr/>
          <p:nvPr/>
        </p:nvSpPr>
        <p:spPr>
          <a:xfrm>
            <a:off x="1749600" y="1658880"/>
            <a:ext cx="439560" cy="466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SMARTPenAnnotation484"/>
          <p:cNvSpPr/>
          <p:nvPr/>
        </p:nvSpPr>
        <p:spPr>
          <a:xfrm>
            <a:off x="2435400" y="1782720"/>
            <a:ext cx="147600" cy="4608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SMARTPenAnnotation485"/>
          <p:cNvSpPr/>
          <p:nvPr/>
        </p:nvSpPr>
        <p:spPr>
          <a:xfrm>
            <a:off x="2411280" y="1863720"/>
            <a:ext cx="171720" cy="6840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SMARTPenAnnotation486"/>
          <p:cNvSpPr/>
          <p:nvPr/>
        </p:nvSpPr>
        <p:spPr>
          <a:xfrm>
            <a:off x="2855880" y="1384200"/>
            <a:ext cx="333360" cy="6843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SMARTPenAnnotation487"/>
          <p:cNvSpPr/>
          <p:nvPr/>
        </p:nvSpPr>
        <p:spPr>
          <a:xfrm>
            <a:off x="3086280" y="1622520"/>
            <a:ext cx="257040" cy="2397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SMARTPenAnnotation488"/>
          <p:cNvSpPr/>
          <p:nvPr/>
        </p:nvSpPr>
        <p:spPr>
          <a:xfrm>
            <a:off x="3417840" y="1874880"/>
            <a:ext cx="33480" cy="13644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SMARTPenAnnotation489"/>
          <p:cNvSpPr/>
          <p:nvPr/>
        </p:nvSpPr>
        <p:spPr>
          <a:xfrm>
            <a:off x="3589200" y="1725480"/>
            <a:ext cx="193680" cy="34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520" bIns="-11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SMARTPenAnnotation490"/>
          <p:cNvSpPr/>
          <p:nvPr/>
        </p:nvSpPr>
        <p:spPr>
          <a:xfrm>
            <a:off x="3908520" y="1554120"/>
            <a:ext cx="171360" cy="34308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SMARTPenAnnotation491"/>
          <p:cNvSpPr/>
          <p:nvPr/>
        </p:nvSpPr>
        <p:spPr>
          <a:xfrm>
            <a:off x="4172040" y="1839960"/>
            <a:ext cx="44280" cy="12528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SMARTPenAnnotation492"/>
          <p:cNvSpPr/>
          <p:nvPr/>
        </p:nvSpPr>
        <p:spPr>
          <a:xfrm>
            <a:off x="4378320" y="1679400"/>
            <a:ext cx="171360" cy="241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2320" bIns="-22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SMARTPenAnnotation493"/>
          <p:cNvSpPr/>
          <p:nvPr/>
        </p:nvSpPr>
        <p:spPr>
          <a:xfrm>
            <a:off x="4697280" y="1542960"/>
            <a:ext cx="252720" cy="1605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SMARTPenAnnotation494"/>
          <p:cNvSpPr/>
          <p:nvPr/>
        </p:nvSpPr>
        <p:spPr>
          <a:xfrm>
            <a:off x="4892760" y="1554120"/>
            <a:ext cx="101520" cy="36684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SMARTPenAnnotation495"/>
          <p:cNvSpPr/>
          <p:nvPr/>
        </p:nvSpPr>
        <p:spPr>
          <a:xfrm>
            <a:off x="5086440" y="1828800"/>
            <a:ext cx="46080" cy="12528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SMARTPenAnnotation496"/>
          <p:cNvSpPr/>
          <p:nvPr/>
        </p:nvSpPr>
        <p:spPr>
          <a:xfrm>
            <a:off x="5337000" y="1725480"/>
            <a:ext cx="195480" cy="111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SMARTPenAnnotation497"/>
          <p:cNvSpPr/>
          <p:nvPr/>
        </p:nvSpPr>
        <p:spPr>
          <a:xfrm>
            <a:off x="5646600" y="1496880"/>
            <a:ext cx="68400" cy="4003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SMARTPenAnnotation498"/>
          <p:cNvSpPr/>
          <p:nvPr/>
        </p:nvSpPr>
        <p:spPr>
          <a:xfrm>
            <a:off x="5772240" y="1886040"/>
            <a:ext cx="34920" cy="921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SMARTPenAnnotation499"/>
          <p:cNvSpPr/>
          <p:nvPr/>
        </p:nvSpPr>
        <p:spPr>
          <a:xfrm>
            <a:off x="5967360" y="1622520"/>
            <a:ext cx="168480" cy="24120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SMARTPenAnnotation500"/>
          <p:cNvSpPr/>
          <p:nvPr/>
        </p:nvSpPr>
        <p:spPr>
          <a:xfrm>
            <a:off x="6022800" y="1441440"/>
            <a:ext cx="387360" cy="6271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SMARTPenAnnotation501"/>
          <p:cNvSpPr/>
          <p:nvPr/>
        </p:nvSpPr>
        <p:spPr>
          <a:xfrm>
            <a:off x="1865160" y="2406600"/>
            <a:ext cx="374760" cy="40500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SMARTPenAnnotation502"/>
          <p:cNvSpPr/>
          <p:nvPr/>
        </p:nvSpPr>
        <p:spPr>
          <a:xfrm>
            <a:off x="2343240" y="2492280"/>
            <a:ext cx="171360" cy="223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SMARTPenAnnotation503"/>
          <p:cNvSpPr/>
          <p:nvPr/>
        </p:nvSpPr>
        <p:spPr>
          <a:xfrm>
            <a:off x="2343240" y="2593800"/>
            <a:ext cx="217440" cy="3528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160" bIns="-11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SMARTPenAnnotation504"/>
          <p:cNvSpPr/>
          <p:nvPr/>
        </p:nvSpPr>
        <p:spPr>
          <a:xfrm>
            <a:off x="2698920" y="2251080"/>
            <a:ext cx="237960" cy="6415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SMARTPenAnnotation505"/>
          <p:cNvSpPr/>
          <p:nvPr/>
        </p:nvSpPr>
        <p:spPr>
          <a:xfrm>
            <a:off x="2960640" y="2367000"/>
            <a:ext cx="171360" cy="28404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SMARTPenAnnotation506"/>
          <p:cNvSpPr/>
          <p:nvPr/>
        </p:nvSpPr>
        <p:spPr>
          <a:xfrm>
            <a:off x="3257640" y="2606760"/>
            <a:ext cx="57240" cy="1587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SMARTPenAnnotation507"/>
          <p:cNvSpPr/>
          <p:nvPr/>
        </p:nvSpPr>
        <p:spPr>
          <a:xfrm>
            <a:off x="3475080" y="2332080"/>
            <a:ext cx="28440" cy="37620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SMARTPenAnnotation508"/>
          <p:cNvSpPr/>
          <p:nvPr/>
        </p:nvSpPr>
        <p:spPr>
          <a:xfrm>
            <a:off x="3589200" y="2674800"/>
            <a:ext cx="57240" cy="11448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SMARTPenAnnotation509"/>
          <p:cNvSpPr/>
          <p:nvPr/>
        </p:nvSpPr>
        <p:spPr>
          <a:xfrm>
            <a:off x="3760920" y="2479680"/>
            <a:ext cx="204480" cy="237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SMARTPenAnnotation510"/>
          <p:cNvSpPr/>
          <p:nvPr/>
        </p:nvSpPr>
        <p:spPr>
          <a:xfrm>
            <a:off x="4114800" y="2263680"/>
            <a:ext cx="79200" cy="34308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SMARTPenAnnotation511"/>
          <p:cNvSpPr/>
          <p:nvPr/>
        </p:nvSpPr>
        <p:spPr>
          <a:xfrm>
            <a:off x="4297320" y="2583000"/>
            <a:ext cx="11160" cy="14904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SMARTPenAnnotation512"/>
          <p:cNvSpPr/>
          <p:nvPr/>
        </p:nvSpPr>
        <p:spPr>
          <a:xfrm>
            <a:off x="4468680" y="2279520"/>
            <a:ext cx="319320" cy="3495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SMARTPenAnnotation513"/>
          <p:cNvSpPr/>
          <p:nvPr/>
        </p:nvSpPr>
        <p:spPr>
          <a:xfrm>
            <a:off x="4960800" y="2629080"/>
            <a:ext cx="22320" cy="14904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SMARTPenAnnotation514"/>
          <p:cNvSpPr/>
          <p:nvPr/>
        </p:nvSpPr>
        <p:spPr>
          <a:xfrm>
            <a:off x="5097600" y="2503440"/>
            <a:ext cx="182520" cy="3348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SMARTPenAnnotation515"/>
          <p:cNvSpPr/>
          <p:nvPr/>
        </p:nvSpPr>
        <p:spPr>
          <a:xfrm>
            <a:off x="5316480" y="2309760"/>
            <a:ext cx="341280" cy="3193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SMARTPenAnnotation516"/>
          <p:cNvSpPr/>
          <p:nvPr/>
        </p:nvSpPr>
        <p:spPr>
          <a:xfrm>
            <a:off x="5635800" y="2274840"/>
            <a:ext cx="239400" cy="44604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SMARTPenAnnotation517"/>
          <p:cNvSpPr/>
          <p:nvPr/>
        </p:nvSpPr>
        <p:spPr>
          <a:xfrm>
            <a:off x="1279440" y="3017880"/>
            <a:ext cx="157320" cy="34920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SMARTPenAnnotation518"/>
          <p:cNvSpPr/>
          <p:nvPr/>
        </p:nvSpPr>
        <p:spPr>
          <a:xfrm>
            <a:off x="1393920" y="2914560"/>
            <a:ext cx="226800" cy="628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SMARTPenAnnotation519"/>
          <p:cNvSpPr/>
          <p:nvPr/>
        </p:nvSpPr>
        <p:spPr>
          <a:xfrm>
            <a:off x="1978200" y="3137040"/>
            <a:ext cx="285480" cy="2127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SMARTPenAnnotation520"/>
          <p:cNvSpPr/>
          <p:nvPr/>
        </p:nvSpPr>
        <p:spPr>
          <a:xfrm>
            <a:off x="1874880" y="3132000"/>
            <a:ext cx="388800" cy="29700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SMARTPenAnnotation521"/>
          <p:cNvSpPr/>
          <p:nvPr/>
        </p:nvSpPr>
        <p:spPr>
          <a:xfrm>
            <a:off x="2789280" y="3178080"/>
            <a:ext cx="291960" cy="19368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SMARTPenAnnotation522"/>
          <p:cNvSpPr/>
          <p:nvPr/>
        </p:nvSpPr>
        <p:spPr>
          <a:xfrm>
            <a:off x="3191040" y="3189240"/>
            <a:ext cx="284040" cy="1587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SMARTPenAnnotation523"/>
          <p:cNvSpPr/>
          <p:nvPr/>
        </p:nvSpPr>
        <p:spPr>
          <a:xfrm>
            <a:off x="3532320" y="3178080"/>
            <a:ext cx="274680" cy="1587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SMARTPenAnnotation524"/>
          <p:cNvSpPr/>
          <p:nvPr/>
        </p:nvSpPr>
        <p:spPr>
          <a:xfrm>
            <a:off x="3521160" y="3189240"/>
            <a:ext cx="204840" cy="1605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SMARTPenAnnotation525"/>
          <p:cNvSpPr/>
          <p:nvPr/>
        </p:nvSpPr>
        <p:spPr>
          <a:xfrm>
            <a:off x="3908520" y="3200400"/>
            <a:ext cx="183960" cy="34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520" bIns="-11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SMARTPenAnnotation526"/>
          <p:cNvSpPr/>
          <p:nvPr/>
        </p:nvSpPr>
        <p:spPr>
          <a:xfrm>
            <a:off x="3954600" y="3257640"/>
            <a:ext cx="228600" cy="34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520" bIns="-11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SMARTPenAnnotation527"/>
          <p:cNvSpPr/>
          <p:nvPr/>
        </p:nvSpPr>
        <p:spPr>
          <a:xfrm>
            <a:off x="4299120" y="3065400"/>
            <a:ext cx="387360" cy="25884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SMARTPenAnnotation528"/>
          <p:cNvSpPr/>
          <p:nvPr/>
        </p:nvSpPr>
        <p:spPr>
          <a:xfrm>
            <a:off x="5086440" y="3075120"/>
            <a:ext cx="263520" cy="1713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SMARTPenAnnotation529"/>
          <p:cNvSpPr/>
          <p:nvPr/>
        </p:nvSpPr>
        <p:spPr>
          <a:xfrm>
            <a:off x="5006880" y="3075120"/>
            <a:ext cx="319320" cy="22860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SMARTPenAnnotation530"/>
          <p:cNvSpPr/>
          <p:nvPr/>
        </p:nvSpPr>
        <p:spPr>
          <a:xfrm>
            <a:off x="5394240" y="3086280"/>
            <a:ext cx="327240" cy="16020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SMARTPenAnnotation531"/>
          <p:cNvSpPr/>
          <p:nvPr/>
        </p:nvSpPr>
        <p:spPr>
          <a:xfrm>
            <a:off x="5851440" y="3097080"/>
            <a:ext cx="22320" cy="13824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SMARTPenAnnotation532"/>
          <p:cNvSpPr/>
          <p:nvPr/>
        </p:nvSpPr>
        <p:spPr>
          <a:xfrm>
            <a:off x="5749920" y="2971800"/>
            <a:ext cx="22320" cy="111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SMARTPenAnnotation533"/>
          <p:cNvSpPr/>
          <p:nvPr/>
        </p:nvSpPr>
        <p:spPr>
          <a:xfrm>
            <a:off x="5908680" y="3040200"/>
            <a:ext cx="171360" cy="16020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SMARTPenAnnotation534"/>
          <p:cNvSpPr/>
          <p:nvPr/>
        </p:nvSpPr>
        <p:spPr>
          <a:xfrm>
            <a:off x="6218280" y="3051000"/>
            <a:ext cx="182520" cy="3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SMARTPenAnnotation535"/>
          <p:cNvSpPr/>
          <p:nvPr/>
        </p:nvSpPr>
        <p:spPr>
          <a:xfrm>
            <a:off x="6229440" y="3143160"/>
            <a:ext cx="171360" cy="4608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SMARTPenAnnotation536"/>
          <p:cNvSpPr/>
          <p:nvPr/>
        </p:nvSpPr>
        <p:spPr>
          <a:xfrm>
            <a:off x="6561000" y="3075120"/>
            <a:ext cx="114480" cy="111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SMARTPenAnnotation537"/>
          <p:cNvSpPr/>
          <p:nvPr/>
        </p:nvSpPr>
        <p:spPr>
          <a:xfrm>
            <a:off x="6721560" y="2892600"/>
            <a:ext cx="203040" cy="12348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SMARTPenAnnotation538"/>
          <p:cNvSpPr/>
          <p:nvPr/>
        </p:nvSpPr>
        <p:spPr>
          <a:xfrm>
            <a:off x="6858000" y="2868480"/>
            <a:ext cx="34920" cy="4111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SMARTPenAnnotation539"/>
          <p:cNvSpPr/>
          <p:nvPr/>
        </p:nvSpPr>
        <p:spPr>
          <a:xfrm>
            <a:off x="1782720" y="3543480"/>
            <a:ext cx="217440" cy="44280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SMARTPenAnnotation540"/>
          <p:cNvSpPr/>
          <p:nvPr/>
        </p:nvSpPr>
        <p:spPr>
          <a:xfrm>
            <a:off x="2068560" y="3567240"/>
            <a:ext cx="274680" cy="13968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SMARTPenAnnotation541"/>
          <p:cNvSpPr/>
          <p:nvPr/>
        </p:nvSpPr>
        <p:spPr>
          <a:xfrm>
            <a:off x="2457360" y="3537000"/>
            <a:ext cx="182520" cy="17784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SMARTPenAnnotation542"/>
          <p:cNvSpPr/>
          <p:nvPr/>
        </p:nvSpPr>
        <p:spPr>
          <a:xfrm>
            <a:off x="2708280" y="3554280"/>
            <a:ext cx="217440" cy="13680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SMARTPenAnnotation543"/>
          <p:cNvSpPr/>
          <p:nvPr/>
        </p:nvSpPr>
        <p:spPr>
          <a:xfrm>
            <a:off x="2732040" y="3543480"/>
            <a:ext cx="160560" cy="14904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SMARTPenAnnotation544"/>
          <p:cNvSpPr/>
          <p:nvPr/>
        </p:nvSpPr>
        <p:spPr>
          <a:xfrm>
            <a:off x="3006720" y="3554280"/>
            <a:ext cx="147600" cy="241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2320" bIns="-22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SMARTPenAnnotation545"/>
          <p:cNvSpPr/>
          <p:nvPr/>
        </p:nvSpPr>
        <p:spPr>
          <a:xfrm>
            <a:off x="3040200" y="3600360"/>
            <a:ext cx="195120" cy="34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520" bIns="-11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SMARTPenAnnotation546"/>
          <p:cNvSpPr/>
          <p:nvPr/>
        </p:nvSpPr>
        <p:spPr>
          <a:xfrm>
            <a:off x="3371760" y="3463920"/>
            <a:ext cx="204840" cy="21600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SMARTPenAnnotation547"/>
          <p:cNvSpPr/>
          <p:nvPr/>
        </p:nvSpPr>
        <p:spPr>
          <a:xfrm>
            <a:off x="4194000" y="3476520"/>
            <a:ext cx="250920" cy="3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SMARTPenAnnotation548"/>
          <p:cNvSpPr/>
          <p:nvPr/>
        </p:nvSpPr>
        <p:spPr>
          <a:xfrm>
            <a:off x="4537080" y="3476520"/>
            <a:ext cx="342720" cy="16200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SMARTPenAnnotation549"/>
          <p:cNvSpPr/>
          <p:nvPr/>
        </p:nvSpPr>
        <p:spPr>
          <a:xfrm>
            <a:off x="4983120" y="3486240"/>
            <a:ext cx="22320" cy="13644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SMARTPenAnnotation550"/>
          <p:cNvSpPr/>
          <p:nvPr/>
        </p:nvSpPr>
        <p:spPr>
          <a:xfrm>
            <a:off x="4960800" y="3382920"/>
            <a:ext cx="11160" cy="111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SMARTPenAnnotation551"/>
          <p:cNvSpPr/>
          <p:nvPr/>
        </p:nvSpPr>
        <p:spPr>
          <a:xfrm>
            <a:off x="5097600" y="3497400"/>
            <a:ext cx="228600" cy="1569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SMARTPenAnnotation552"/>
          <p:cNvSpPr/>
          <p:nvPr/>
        </p:nvSpPr>
        <p:spPr>
          <a:xfrm>
            <a:off x="5486400" y="3486240"/>
            <a:ext cx="149400" cy="34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520" bIns="-11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SMARTPenAnnotation553"/>
          <p:cNvSpPr/>
          <p:nvPr/>
        </p:nvSpPr>
        <p:spPr>
          <a:xfrm>
            <a:off x="5475240" y="3600360"/>
            <a:ext cx="182520" cy="223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SMARTPenAnnotation554"/>
          <p:cNvSpPr/>
          <p:nvPr/>
        </p:nvSpPr>
        <p:spPr>
          <a:xfrm>
            <a:off x="5772240" y="3508200"/>
            <a:ext cx="171360" cy="3528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160" bIns="-11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SMARTPenAnnotation555"/>
          <p:cNvSpPr/>
          <p:nvPr/>
        </p:nvSpPr>
        <p:spPr>
          <a:xfrm>
            <a:off x="5965920" y="3349800"/>
            <a:ext cx="342720" cy="27288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SMARTPenAnnotation556"/>
          <p:cNvSpPr/>
          <p:nvPr/>
        </p:nvSpPr>
        <p:spPr>
          <a:xfrm>
            <a:off x="6114960" y="3543480"/>
            <a:ext cx="582840" cy="26175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SMARTPenAnnotation557"/>
          <p:cNvSpPr/>
          <p:nvPr/>
        </p:nvSpPr>
        <p:spPr>
          <a:xfrm>
            <a:off x="4194000" y="4519440"/>
            <a:ext cx="2826000" cy="18900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SMARTPenAnnotation558"/>
          <p:cNvSpPr/>
          <p:nvPr/>
        </p:nvSpPr>
        <p:spPr>
          <a:xfrm>
            <a:off x="7358040" y="4537080"/>
            <a:ext cx="539640" cy="237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SMARTPenAnnotation559"/>
          <p:cNvSpPr/>
          <p:nvPr/>
        </p:nvSpPr>
        <p:spPr>
          <a:xfrm>
            <a:off x="6594480" y="4389480"/>
            <a:ext cx="34920" cy="3189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SMARTPenAnnotation560"/>
          <p:cNvSpPr/>
          <p:nvPr/>
        </p:nvSpPr>
        <p:spPr>
          <a:xfrm>
            <a:off x="6912000" y="4389480"/>
            <a:ext cx="38160" cy="23328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SMARTPenAnnotation561"/>
          <p:cNvSpPr/>
          <p:nvPr/>
        </p:nvSpPr>
        <p:spPr>
          <a:xfrm>
            <a:off x="6915240" y="4651200"/>
            <a:ext cx="11160" cy="129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480" bIns="-33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SMARTPenAnnotation562"/>
          <p:cNvSpPr/>
          <p:nvPr/>
        </p:nvSpPr>
        <p:spPr>
          <a:xfrm>
            <a:off x="7184880" y="4411800"/>
            <a:ext cx="16200" cy="9180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SMARTPenAnnotation563"/>
          <p:cNvSpPr/>
          <p:nvPr/>
        </p:nvSpPr>
        <p:spPr>
          <a:xfrm>
            <a:off x="7165800" y="4664160"/>
            <a:ext cx="12960" cy="111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SMARTPenAnnotation564"/>
          <p:cNvSpPr/>
          <p:nvPr/>
        </p:nvSpPr>
        <p:spPr>
          <a:xfrm>
            <a:off x="7456320" y="4343400"/>
            <a:ext cx="30240" cy="24624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SMARTPenAnnotation565"/>
          <p:cNvSpPr/>
          <p:nvPr/>
        </p:nvSpPr>
        <p:spPr>
          <a:xfrm>
            <a:off x="7451640" y="4675320"/>
            <a:ext cx="12960" cy="111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SMARTPenAnnotation566"/>
          <p:cNvSpPr/>
          <p:nvPr/>
        </p:nvSpPr>
        <p:spPr>
          <a:xfrm>
            <a:off x="6504120" y="4789440"/>
            <a:ext cx="17280" cy="2397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SMARTPenAnnotation567"/>
          <p:cNvSpPr/>
          <p:nvPr/>
        </p:nvSpPr>
        <p:spPr>
          <a:xfrm>
            <a:off x="6778800" y="4759200"/>
            <a:ext cx="58680" cy="1908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360" bIns="-27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SMARTPenAnnotation568"/>
          <p:cNvSpPr/>
          <p:nvPr/>
        </p:nvSpPr>
        <p:spPr>
          <a:xfrm>
            <a:off x="6765840" y="4906800"/>
            <a:ext cx="60480" cy="4320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" bIns="-3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SMARTPenAnnotation569"/>
          <p:cNvSpPr/>
          <p:nvPr/>
        </p:nvSpPr>
        <p:spPr>
          <a:xfrm>
            <a:off x="6880320" y="4950000"/>
            <a:ext cx="12600" cy="1080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SMARTPenAnnotation570"/>
          <p:cNvSpPr/>
          <p:nvPr/>
        </p:nvSpPr>
        <p:spPr>
          <a:xfrm>
            <a:off x="6264360" y="4240080"/>
            <a:ext cx="330120" cy="34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520" bIns="-11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SMARTPenAnnotation571"/>
          <p:cNvSpPr/>
          <p:nvPr/>
        </p:nvSpPr>
        <p:spPr>
          <a:xfrm>
            <a:off x="6058080" y="4137120"/>
            <a:ext cx="34920" cy="2523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SMARTPenAnnotation572"/>
          <p:cNvSpPr/>
          <p:nvPr/>
        </p:nvSpPr>
        <p:spPr>
          <a:xfrm>
            <a:off x="6389640" y="3936960"/>
            <a:ext cx="285840" cy="2844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SMARTPenAnnotation573"/>
          <p:cNvSpPr/>
          <p:nvPr/>
        </p:nvSpPr>
        <p:spPr>
          <a:xfrm>
            <a:off x="6046920" y="3800520"/>
            <a:ext cx="261720" cy="1839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SMARTPenAnnotation574"/>
          <p:cNvSpPr/>
          <p:nvPr/>
        </p:nvSpPr>
        <p:spPr>
          <a:xfrm>
            <a:off x="6400800" y="3624120"/>
            <a:ext cx="411120" cy="3348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SMARTPenAnnotation575"/>
          <p:cNvSpPr/>
          <p:nvPr/>
        </p:nvSpPr>
        <p:spPr>
          <a:xfrm>
            <a:off x="6207120" y="3567240"/>
            <a:ext cx="147600" cy="22680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SMARTPenAnnotation576"/>
          <p:cNvSpPr/>
          <p:nvPr/>
        </p:nvSpPr>
        <p:spPr>
          <a:xfrm>
            <a:off x="6103800" y="4708440"/>
            <a:ext cx="308160" cy="5724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SMARTPenAnnotation577"/>
          <p:cNvSpPr/>
          <p:nvPr/>
        </p:nvSpPr>
        <p:spPr>
          <a:xfrm>
            <a:off x="5908680" y="4629240"/>
            <a:ext cx="11160" cy="7128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SMARTPenAnnotation578"/>
          <p:cNvSpPr/>
          <p:nvPr/>
        </p:nvSpPr>
        <p:spPr>
          <a:xfrm>
            <a:off x="5908680" y="4857840"/>
            <a:ext cx="12600" cy="111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SMARTPenAnnotation579"/>
          <p:cNvSpPr/>
          <p:nvPr/>
        </p:nvSpPr>
        <p:spPr>
          <a:xfrm>
            <a:off x="6161040" y="5051520"/>
            <a:ext cx="160560" cy="237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SMARTPenAnnotation580"/>
          <p:cNvSpPr/>
          <p:nvPr/>
        </p:nvSpPr>
        <p:spPr>
          <a:xfrm>
            <a:off x="5657760" y="4765680"/>
            <a:ext cx="149400" cy="3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SMARTPenAnnotation581"/>
          <p:cNvSpPr/>
          <p:nvPr/>
        </p:nvSpPr>
        <p:spPr>
          <a:xfrm>
            <a:off x="5897520" y="4629240"/>
            <a:ext cx="23760" cy="29664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SMARTPenAnnotation582"/>
          <p:cNvSpPr/>
          <p:nvPr/>
        </p:nvSpPr>
        <p:spPr>
          <a:xfrm>
            <a:off x="5600880" y="5132520"/>
            <a:ext cx="193320" cy="331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SMARTPenAnnotation583"/>
          <p:cNvSpPr/>
          <p:nvPr/>
        </p:nvSpPr>
        <p:spPr>
          <a:xfrm>
            <a:off x="5886360" y="4938840"/>
            <a:ext cx="160560" cy="29664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SMARTPenAnnotation584"/>
          <p:cNvSpPr/>
          <p:nvPr/>
        </p:nvSpPr>
        <p:spPr>
          <a:xfrm>
            <a:off x="6035760" y="4411800"/>
            <a:ext cx="57240" cy="2635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SMARTPenAnnotation585"/>
          <p:cNvSpPr/>
          <p:nvPr/>
        </p:nvSpPr>
        <p:spPr>
          <a:xfrm>
            <a:off x="5715000" y="4411800"/>
            <a:ext cx="34920" cy="2523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SMARTPenAnnotation586"/>
          <p:cNvSpPr/>
          <p:nvPr/>
        </p:nvSpPr>
        <p:spPr>
          <a:xfrm>
            <a:off x="5418000" y="4435560"/>
            <a:ext cx="57240" cy="29664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SMARTPenAnnotation587"/>
          <p:cNvSpPr/>
          <p:nvPr/>
        </p:nvSpPr>
        <p:spPr>
          <a:xfrm>
            <a:off x="6711840" y="4754520"/>
            <a:ext cx="249480" cy="22860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SMARTPenAnnotation588"/>
          <p:cNvSpPr/>
          <p:nvPr/>
        </p:nvSpPr>
        <p:spPr>
          <a:xfrm>
            <a:off x="7165800" y="4389480"/>
            <a:ext cx="46080" cy="22860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SMARTPenAnnotation589"/>
          <p:cNvSpPr/>
          <p:nvPr/>
        </p:nvSpPr>
        <p:spPr>
          <a:xfrm>
            <a:off x="7007400" y="4514760"/>
            <a:ext cx="776160" cy="34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520" bIns="-11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SMARTPenAnnotation590"/>
          <p:cNvSpPr/>
          <p:nvPr/>
        </p:nvSpPr>
        <p:spPr>
          <a:xfrm>
            <a:off x="7040520" y="4676760"/>
            <a:ext cx="206280" cy="28404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SMARTPenAnnotation591"/>
          <p:cNvSpPr/>
          <p:nvPr/>
        </p:nvSpPr>
        <p:spPr>
          <a:xfrm>
            <a:off x="7354800" y="4708440"/>
            <a:ext cx="154080" cy="12564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SMARTPenAnnotation592"/>
          <p:cNvSpPr/>
          <p:nvPr/>
        </p:nvSpPr>
        <p:spPr>
          <a:xfrm>
            <a:off x="7440480" y="4686480"/>
            <a:ext cx="46080" cy="35388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SMARTPenAnnotation593"/>
          <p:cNvSpPr/>
          <p:nvPr/>
        </p:nvSpPr>
        <p:spPr>
          <a:xfrm>
            <a:off x="7010280" y="3909960"/>
            <a:ext cx="82800" cy="889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480" bIns="42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SMARTPenAnnotation594"/>
          <p:cNvSpPr/>
          <p:nvPr/>
        </p:nvSpPr>
        <p:spPr>
          <a:xfrm>
            <a:off x="5429160" y="4189320"/>
            <a:ext cx="68400" cy="96840"/>
          </a:xfrm>
          <a:prstGeom prst="pie">
            <a:avLst/>
          </a:prstGeom>
          <a:solidFill>
            <a:srgbClr val="cc0066"/>
          </a:solidFill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c1c1c"/>
                </a:solidFill>
                <a:latin typeface="Bleeding Cowboys"/>
              </a:rPr>
              <a:t>Objectives</a:t>
            </a:r>
            <a:endParaRPr b="1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rn function no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resent a function four different w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y the range and domain of a fun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y fun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c1c1c"/>
                </a:solidFill>
                <a:latin typeface="Bleeding Cowboys"/>
              </a:rPr>
              <a:t>What is a function?</a:t>
            </a:r>
            <a:endParaRPr b="1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function is a relation in which every input (x) has exactly one output (y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emphasize that y is a function of x, the notation y=f(x) is often us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variable y is called the dependent vari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variable x is called the independent vari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c1c1c"/>
                </a:solidFill>
                <a:latin typeface="Bleeding Cowboys"/>
              </a:rPr>
              <a:t>Anatomy of a function</a:t>
            </a:r>
            <a:endParaRPr b="1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= f(x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(20)=4 would read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 of 20 equals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, g, and h are often used as names of fun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AutoShape 7"/>
          <p:cNvSpPr/>
          <p:nvPr/>
        </p:nvSpPr>
        <p:spPr>
          <a:xfrm>
            <a:off x="1981080" y="2514600"/>
            <a:ext cx="1067040" cy="457200"/>
          </a:xfrm>
          <a:prstGeom prst="borderCallout2">
            <a:avLst>
              <a:gd name="adj1" fmla="val 18750"/>
              <a:gd name="adj2" fmla="val -8333"/>
              <a:gd name="adj3" fmla="val 25000"/>
              <a:gd name="adj4" fmla="val 138689"/>
              <a:gd name="adj5" fmla="val -66666"/>
              <a:gd name="adj6" fmla="val 171430"/>
            </a:avLst>
          </a:prstGeom>
          <a:solidFill>
            <a:srgbClr val="cc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AutoShape 9"/>
          <p:cNvSpPr/>
          <p:nvPr/>
        </p:nvSpPr>
        <p:spPr>
          <a:xfrm>
            <a:off x="4724280" y="3086280"/>
            <a:ext cx="914400" cy="60948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2500"/>
              <a:gd name="adj5" fmla="val -143750"/>
              <a:gd name="adj6" fmla="val -16666"/>
            </a:avLst>
          </a:prstGeom>
          <a:solidFill>
            <a:srgbClr val="cc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AutoShape 10"/>
          <p:cNvSpPr/>
          <p:nvPr/>
        </p:nvSpPr>
        <p:spPr>
          <a:xfrm>
            <a:off x="6400800" y="2476440"/>
            <a:ext cx="91440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81944"/>
              <a:gd name="adj5" fmla="val -43750"/>
              <a:gd name="adj6" fmla="val -158333"/>
            </a:avLst>
          </a:prstGeom>
          <a:solidFill>
            <a:srgbClr val="cc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SMARTPenAnnotation418"/>
          <p:cNvSpPr/>
          <p:nvPr/>
        </p:nvSpPr>
        <p:spPr>
          <a:xfrm>
            <a:off x="6035760" y="3743280"/>
            <a:ext cx="296640" cy="7603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SMARTPenAnnotation419"/>
          <p:cNvSpPr/>
          <p:nvPr/>
        </p:nvSpPr>
        <p:spPr>
          <a:xfrm>
            <a:off x="5902200" y="4160880"/>
            <a:ext cx="441360" cy="684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SMARTPenAnnotation420"/>
          <p:cNvSpPr/>
          <p:nvPr/>
        </p:nvSpPr>
        <p:spPr>
          <a:xfrm>
            <a:off x="5154480" y="4056120"/>
            <a:ext cx="274680" cy="7221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SMARTPenAnnotation421"/>
          <p:cNvSpPr/>
          <p:nvPr/>
        </p:nvSpPr>
        <p:spPr>
          <a:xfrm>
            <a:off x="5486400" y="4149720"/>
            <a:ext cx="125280" cy="334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SMARTPenAnnotation422"/>
          <p:cNvSpPr/>
          <p:nvPr/>
        </p:nvSpPr>
        <p:spPr>
          <a:xfrm>
            <a:off x="5521320" y="4229280"/>
            <a:ext cx="114480" cy="108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SMARTPenAnnotation423"/>
          <p:cNvSpPr/>
          <p:nvPr/>
        </p:nvSpPr>
        <p:spPr>
          <a:xfrm>
            <a:off x="6424560" y="3726000"/>
            <a:ext cx="330120" cy="7077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SMARTPenAnnotation424"/>
          <p:cNvSpPr/>
          <p:nvPr/>
        </p:nvSpPr>
        <p:spPr>
          <a:xfrm>
            <a:off x="6743880" y="4092480"/>
            <a:ext cx="274320" cy="1825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SMARTPenAnnotation425"/>
          <p:cNvSpPr/>
          <p:nvPr/>
        </p:nvSpPr>
        <p:spPr>
          <a:xfrm>
            <a:off x="6754680" y="4022640"/>
            <a:ext cx="217800" cy="3319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SMARTPenAnnotation426"/>
          <p:cNvSpPr/>
          <p:nvPr/>
        </p:nvSpPr>
        <p:spPr>
          <a:xfrm>
            <a:off x="7064280" y="3828960"/>
            <a:ext cx="181080" cy="5256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SMARTPenAnnotation427"/>
          <p:cNvSpPr/>
          <p:nvPr/>
        </p:nvSpPr>
        <p:spPr>
          <a:xfrm>
            <a:off x="6080040" y="4748040"/>
            <a:ext cx="304920" cy="5097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SMARTPenAnnotation428"/>
          <p:cNvSpPr/>
          <p:nvPr/>
        </p:nvSpPr>
        <p:spPr>
          <a:xfrm>
            <a:off x="6572160" y="4697280"/>
            <a:ext cx="250920" cy="810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SMARTPenAnnotation429"/>
          <p:cNvSpPr/>
          <p:nvPr/>
        </p:nvSpPr>
        <p:spPr>
          <a:xfrm>
            <a:off x="6618240" y="4778280"/>
            <a:ext cx="239760" cy="684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SMARTPenAnnotation430"/>
          <p:cNvSpPr/>
          <p:nvPr/>
        </p:nvSpPr>
        <p:spPr>
          <a:xfrm>
            <a:off x="7097760" y="4560840"/>
            <a:ext cx="309600" cy="5367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SMARTPenAnnotation431"/>
          <p:cNvSpPr/>
          <p:nvPr/>
        </p:nvSpPr>
        <p:spPr>
          <a:xfrm>
            <a:off x="7534440" y="4336920"/>
            <a:ext cx="123840" cy="4287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SMARTPenAnnotation432"/>
          <p:cNvSpPr/>
          <p:nvPr/>
        </p:nvSpPr>
        <p:spPr>
          <a:xfrm>
            <a:off x="7750080" y="4492800"/>
            <a:ext cx="216000" cy="1364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SMARTPenAnnotation433"/>
          <p:cNvSpPr/>
          <p:nvPr/>
        </p:nvSpPr>
        <p:spPr>
          <a:xfrm>
            <a:off x="7772400" y="4435560"/>
            <a:ext cx="149400" cy="2858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SMARTPenAnnotation434"/>
          <p:cNvSpPr/>
          <p:nvPr/>
        </p:nvSpPr>
        <p:spPr>
          <a:xfrm>
            <a:off x="7966080" y="4251240"/>
            <a:ext cx="250920" cy="4921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SMARTPenAnnotation435"/>
          <p:cNvSpPr/>
          <p:nvPr/>
        </p:nvSpPr>
        <p:spPr>
          <a:xfrm>
            <a:off x="6748560" y="5173560"/>
            <a:ext cx="253800" cy="4842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SMARTPenAnnotation436"/>
          <p:cNvSpPr/>
          <p:nvPr/>
        </p:nvSpPr>
        <p:spPr>
          <a:xfrm>
            <a:off x="7121520" y="5222880"/>
            <a:ext cx="228600" cy="698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SMARTPenAnnotation437"/>
          <p:cNvSpPr/>
          <p:nvPr/>
        </p:nvSpPr>
        <p:spPr>
          <a:xfrm>
            <a:off x="7155000" y="5280120"/>
            <a:ext cx="228600" cy="1490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SMARTPenAnnotation438"/>
          <p:cNvSpPr/>
          <p:nvPr/>
        </p:nvSpPr>
        <p:spPr>
          <a:xfrm>
            <a:off x="7486560" y="4925880"/>
            <a:ext cx="200160" cy="5605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SMARTPenAnnotation439"/>
          <p:cNvSpPr/>
          <p:nvPr/>
        </p:nvSpPr>
        <p:spPr>
          <a:xfrm>
            <a:off x="7886880" y="4862520"/>
            <a:ext cx="171360" cy="5554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SMARTPenAnnotation440"/>
          <p:cNvSpPr/>
          <p:nvPr/>
        </p:nvSpPr>
        <p:spPr>
          <a:xfrm>
            <a:off x="8048520" y="5097600"/>
            <a:ext cx="227160" cy="2394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SMARTPenAnnotation441"/>
          <p:cNvSpPr/>
          <p:nvPr/>
        </p:nvSpPr>
        <p:spPr>
          <a:xfrm>
            <a:off x="8047080" y="5075280"/>
            <a:ext cx="160200" cy="3427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SMARTPenAnnotation442"/>
          <p:cNvSpPr/>
          <p:nvPr/>
        </p:nvSpPr>
        <p:spPr>
          <a:xfrm>
            <a:off x="8207280" y="4789440"/>
            <a:ext cx="227160" cy="5936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c1c1c"/>
                </a:solidFill>
                <a:latin typeface="Bleeding Cowboys"/>
              </a:rPr>
              <a:t>Domain and range</a:t>
            </a:r>
            <a:endParaRPr b="1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et of valid or meaningful inputs (x) is called the domain of a fun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rresponding outputs (y) is the ran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ine f(x)=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would be the domai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would be the 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less stated otherwise, the domain of a function f is the set of all real numbers that make sense for the function.   This is called the implied domain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SMARTPenAnnotation400"/>
          <p:cNvSpPr/>
          <p:nvPr/>
        </p:nvSpPr>
        <p:spPr>
          <a:xfrm>
            <a:off x="5464080" y="3360600"/>
            <a:ext cx="33480" cy="3891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SMARTPenAnnotation401"/>
          <p:cNvSpPr/>
          <p:nvPr/>
        </p:nvSpPr>
        <p:spPr>
          <a:xfrm>
            <a:off x="5521320" y="3330720"/>
            <a:ext cx="136440" cy="4302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SMARTPenAnnotation402"/>
          <p:cNvSpPr/>
          <p:nvPr/>
        </p:nvSpPr>
        <p:spPr>
          <a:xfrm>
            <a:off x="5337000" y="3211560"/>
            <a:ext cx="731880" cy="5014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SMARTPenAnnotation403"/>
          <p:cNvSpPr/>
          <p:nvPr/>
        </p:nvSpPr>
        <p:spPr>
          <a:xfrm>
            <a:off x="5180040" y="3875040"/>
            <a:ext cx="169920" cy="45720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SMARTPenAnnotation404"/>
          <p:cNvSpPr/>
          <p:nvPr/>
        </p:nvSpPr>
        <p:spPr>
          <a:xfrm>
            <a:off x="5075280" y="4116240"/>
            <a:ext cx="318960" cy="5580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SMARTPenAnnotation405"/>
          <p:cNvSpPr/>
          <p:nvPr/>
        </p:nvSpPr>
        <p:spPr>
          <a:xfrm>
            <a:off x="5464080" y="3886200"/>
            <a:ext cx="136800" cy="36504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SMARTPenAnnotation406"/>
          <p:cNvSpPr/>
          <p:nvPr/>
        </p:nvSpPr>
        <p:spPr>
          <a:xfrm>
            <a:off x="5611680" y="4046400"/>
            <a:ext cx="206640" cy="19368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SMARTPenAnnotation407"/>
          <p:cNvSpPr/>
          <p:nvPr/>
        </p:nvSpPr>
        <p:spPr>
          <a:xfrm>
            <a:off x="5692680" y="4022640"/>
            <a:ext cx="79560" cy="21744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SMARTPenAnnotation408"/>
          <p:cNvSpPr/>
          <p:nvPr/>
        </p:nvSpPr>
        <p:spPr>
          <a:xfrm>
            <a:off x="5818320" y="3875040"/>
            <a:ext cx="158760" cy="36504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SMARTPenAnnotation409"/>
          <p:cNvSpPr/>
          <p:nvPr/>
        </p:nvSpPr>
        <p:spPr>
          <a:xfrm>
            <a:off x="6093000" y="4002120"/>
            <a:ext cx="204480" cy="5544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SMARTPenAnnotation410"/>
          <p:cNvSpPr/>
          <p:nvPr/>
        </p:nvSpPr>
        <p:spPr>
          <a:xfrm>
            <a:off x="6126120" y="4046400"/>
            <a:ext cx="239760" cy="4608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SMARTPenAnnotation411"/>
          <p:cNvSpPr/>
          <p:nvPr/>
        </p:nvSpPr>
        <p:spPr>
          <a:xfrm>
            <a:off x="6480000" y="3932280"/>
            <a:ext cx="195480" cy="25092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SMARTPenAnnotation412"/>
          <p:cNvSpPr/>
          <p:nvPr/>
        </p:nvSpPr>
        <p:spPr>
          <a:xfrm>
            <a:off x="6504120" y="3908520"/>
            <a:ext cx="182520" cy="27468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SMARTPenAnnotation413"/>
          <p:cNvSpPr/>
          <p:nvPr/>
        </p:nvSpPr>
        <p:spPr>
          <a:xfrm>
            <a:off x="6765840" y="3760920"/>
            <a:ext cx="228600" cy="20448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SMARTPenAnnotation414"/>
          <p:cNvSpPr/>
          <p:nvPr/>
        </p:nvSpPr>
        <p:spPr>
          <a:xfrm>
            <a:off x="5886360" y="4435560"/>
            <a:ext cx="249480" cy="53640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SMARTPenAnnotation415"/>
          <p:cNvSpPr/>
          <p:nvPr/>
        </p:nvSpPr>
        <p:spPr>
          <a:xfrm>
            <a:off x="6297480" y="4378320"/>
            <a:ext cx="263520" cy="23976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SMARTPenAnnotation416"/>
          <p:cNvSpPr/>
          <p:nvPr/>
        </p:nvSpPr>
        <p:spPr>
          <a:xfrm>
            <a:off x="6321600" y="4619520"/>
            <a:ext cx="296640" cy="3996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SMARTPenAnnotation417"/>
          <p:cNvSpPr/>
          <p:nvPr/>
        </p:nvSpPr>
        <p:spPr>
          <a:xfrm>
            <a:off x="6743880" y="4297320"/>
            <a:ext cx="204480" cy="29520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c1c1c"/>
                </a:solidFill>
                <a:latin typeface="Bleeding Cowboys"/>
              </a:rPr>
              <a:t>Formal definition of a function</a:t>
            </a:r>
            <a:endParaRPr b="1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function is a relation in which each element in the domain corresponds to one element in the ran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9T16:03:13Z</dcterms:created>
  <dc:creator>nuhs</dc:creator>
  <dc:description/>
  <dc:language>en-US</dc:language>
  <cp:lastModifiedBy>Ameena</cp:lastModifiedBy>
  <dcterms:modified xsi:type="dcterms:W3CDTF">2008-09-09T22:24:03Z</dcterms:modified>
  <cp:revision>18</cp:revision>
  <dc:subject/>
  <dc:title>1.3: functions and their representations</dc:title>
</cp:coreProperties>
</file>